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F5B56-67ED-4F42-9C4C-AB53A251AEB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Ver gráfica del archivo gráficas.pp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ver archivo de gráfica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84E6D-9F6E-4C51-86F0-1C4B585904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91717-F18E-4A9D-8D5A-9FBA6B14A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EA2C5-3AC1-47F7-9941-535F46FF2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288EBB-723B-44D7-89D8-43E1EF8964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1980C-169D-49A1-B374-3EA37A864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B54CF-10C9-4AEB-B1AF-1B218C1B4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28B17-3004-4457-98B3-B53EC2923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98934-E600-4951-BEFB-70B4D2378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D58BE-9F27-4845-B4D9-32FB63323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FC0E7-70F7-4DBC-8F66-2C5D1401C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6DB1B-3D49-4152-B177-44953DE2A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4D879-8F98-48EE-AAA8-C5FF866081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0E5F2-59BA-47BE-AC34-246F056F50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apítulo IV Higiene Industrial</a:t>
            </a:r>
            <a:endParaRPr b="0" lang="en-US" sz="2400" spc="-1" strike="noStrike">
              <a:solidFill>
                <a:srgbClr val="000000"/>
              </a:solidFill>
              <a:latin typeface="Times New Roman"/>
            </a:endParaRPr>
          </a:p>
        </p:txBody>
      </p:sp>
      <p:sp>
        <p:nvSpPr>
          <p:cNvPr id="49"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nalizar los factores del ambiente de trabajo para controlar aquellos que pudieran afectar la salud de los trabajadores expuestos a ellos, se apoya en:</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toxicologí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ergonomí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medicina ocupacional</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higiene industrial abarca desde el control del estado de salud del personal de nuevo ingreso, hasta el control de los servicios e instalaciones como comedor, baños y vestidor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e debe diseñar un sistema para detectar oportunamente las fallas en el sistema de control, campañas de promoción ágiles y programas de capacitación con información y formas prácticas de aplicació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rendimiento de cualquier persona guarda una relación directa con su estado de salu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control de la salud debe estar en manos de médicos especialistas del trabaj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n-hexano</a:t>
            </a:r>
            <a:r>
              <a:rPr b="0" lang="es-MX" sz="1400" spc="-1" strike="noStrike">
                <a:solidFill>
                  <a:srgbClr val="000000"/>
                </a:solidFill>
                <a:latin typeface="Times New Roman"/>
              </a:rPr>
              <a:t> se usa en adhesivos y causa polineuropatía, altas concentraciones producen nauseas, dolor de cabeza e irritación en los ojos y garganta.</a:t>
            </a:r>
            <a:endParaRPr b="0" lang="en-US" sz="14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lcohol mineral</a:t>
            </a:r>
            <a:r>
              <a:rPr b="0" lang="es-MX" sz="1400" spc="-1" strike="noStrike">
                <a:solidFill>
                  <a:srgbClr val="000000"/>
                </a:solidFill>
                <a:latin typeface="Times New Roman"/>
              </a:rPr>
              <a:t>.- se usa como adelgazador en la industria de pinturas y barnices y en el lavado en seco. Sus efectos son prolongación de reacción.</a:t>
            </a:r>
            <a:endParaRPr b="0" lang="en-US" sz="14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Combustible de jet</a:t>
            </a:r>
            <a:r>
              <a:rPr b="0" lang="es-MX" sz="1400" spc="-1" strike="noStrike">
                <a:solidFill>
                  <a:srgbClr val="000000"/>
                </a:solidFill>
                <a:latin typeface="Times New Roman"/>
              </a:rPr>
              <a:t>.- es combustible para turbinas de avión, síntomas agudos encontrados entre los trabajadores expuestos son mareo, dolor de cabeza, nausea y síntomas del tracto respiratorio,</a:t>
            </a:r>
            <a:endParaRPr b="0" lang="en-US" sz="14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Plaguicidas</a:t>
            </a:r>
            <a:r>
              <a:rPr b="0" lang="es-MX" sz="1800" spc="-1" strike="noStrike">
                <a:solidFill>
                  <a:srgbClr val="000000"/>
                </a:solidFill>
                <a:latin typeface="Times New Roman"/>
              </a:rPr>
              <a:t>.: se dividen en insecticidas, rodenticidas, herbicidas, fungicidas y moluscidas. Se usan principalmente en la agricultura y la silvicultura, pero también en los sitemas de cuidado de salud</a:t>
            </a:r>
            <a:endParaRPr b="0" lang="en-US" sz="1800" spc="-1" strike="noStrike">
              <a:solidFill>
                <a:srgbClr val="000000"/>
              </a:solidFill>
              <a:latin typeface="Times New Roman"/>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dentificación y control</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Toda sustancia peligrosa debe estar identificada para evitar cualquier riesgo. Debe estar adherida en una etiqueta en los recipientes usados para su almacenamiento y debe registrarse en el expediente técnico.</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be capacitarse al personal en su manejo y el personal expuesto debe recibir constante observación médica.</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onde sea sistemático el uso de estas sustancias, se deberán instalar baños y vestidore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be haber estricto contro sobre los alimentos y evitar se consuman en los lugares de trabaj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Medicina ocupacional</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e encarga de conocer y controlar el estado de salud de los trabajadores expuestos a los diferentes factores del ambiente de trabajo. Está enfocada a la prevención de las enfermedades causadas por la exposición a los factores específicos (riesgos de trabaj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evaluación del estado de  salud de los trabajadores es básico para verificar la efectividad de nuestros sistemas y equipos de control de los riesgos de higiene y seguridad en el trabajo. Los exámenes médico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 admisión</a:t>
            </a:r>
            <a:r>
              <a:rPr b="0" lang="es-MX" sz="1800" spc="-1" strike="noStrike">
                <a:solidFill>
                  <a:srgbClr val="000000"/>
                </a:solidFill>
                <a:latin typeface="Times New Roman"/>
              </a:rPr>
              <a:t>.- se usan para a) conocer el estado de salud de los aspirantes a un nuevo trabajo o tarea. b) determinar si su capacidad es compatible con las exigencias psíquicas y físicas del puesto asignado</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Periódicos.-</a:t>
            </a:r>
            <a:r>
              <a:rPr b="0" lang="es-MX" sz="1800" spc="-1" strike="noStrike">
                <a:solidFill>
                  <a:srgbClr val="000000"/>
                </a:solidFill>
                <a:latin typeface="Times New Roman"/>
              </a:rPr>
              <a:t> también conocidos como de control, se emplean para verificar las condiciones de salud de los trabajadores expuestos a riesgos de salud específicos de acuerdo a las tareas desarrolladas. Se recomiendan cada tres meses o al menos cada año. Evaluar manifestaciones anormales en las funciones nerviosas, hepáticas, renal, pulmonar, etc.</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Especiales.-</a:t>
            </a:r>
            <a:r>
              <a:rPr b="0" lang="es-MX" sz="1800" spc="-1" strike="noStrike">
                <a:solidFill>
                  <a:srgbClr val="000000"/>
                </a:solidFill>
                <a:latin typeface="Times New Roman"/>
              </a:rPr>
              <a:t> se usan para controlar el estado de salud de trabajadores expuestos a riesgos de salud de nivel alto.</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fontScale="99000"/>
          </a:bodyPr>
          <a:p>
            <a:pPr marL="339480" indent="-339480" algn="ct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nfermedades del trabajo</a:t>
            </a:r>
            <a:endParaRPr b="0" lang="en-US" sz="24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adquiere el trabajador por la exposición sistemática a los factores del ambiente de trabajo.</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iesgo presente en toda actividad laboral porque el trabajador tiene que desarrollar actividades y exponerse a condiciones que superan la capacidad normal del organismo humano.</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 veces los síntomas no se presentan durante la jornada, sino días, meses y hasta años despué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mo cualquier enfermedad, tienen muchas vías de manifestación y ello hace necesario conocer los factores laborales para poder determinar si algún transtorno es de origen laboral o no.</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Generalmente, los primeros síntomas son hemáticos, hepáticos o renales y para ello existen pruebas específicas de evaluación.</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lgunas situaciones específicas en las que el riesgo propicie algún padecimiento con patología similar a la de una enfermedad común. Se requiere del apoyo de especialistas. Sustancias carcinógenas por ej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que el médico pueda desarrollar su trabajo, requiere del perfil toxicológico de cada sustancia que se maneje en la empres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rritabilidad</a:t>
            </a:r>
            <a:r>
              <a:rPr b="0" lang="es-MX" sz="1800" spc="-1" strike="noStrike">
                <a:solidFill>
                  <a:srgbClr val="000000"/>
                </a:solidFill>
                <a:latin typeface="Times New Roman"/>
              </a:rPr>
              <a:t>.- algunos productos pueden causar irritación si entran en contacto directo con la piel, ojos o tracto respiratorio.</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Sensibilidad</a:t>
            </a:r>
            <a:r>
              <a:rPr b="0" lang="es-MX" sz="1800" spc="-1" strike="noStrike">
                <a:solidFill>
                  <a:srgbClr val="000000"/>
                </a:solidFill>
                <a:latin typeface="Times New Roman"/>
              </a:rPr>
              <a:t> al producto.- es el desarrollo a través del tiempo, de una reacción alérgica al producto. Al principio la respuesta es leve, pero a medida que la alergia se desarrolla, la respuesta empeora. Hay dos tipos de sensibilidad ocupacional: cutánea y respiratoria. La primera se manifiesta como hinchazón, enrojecimiento, comezón, dolor y ampollamiento. La segunda puede manifestarse como un ataque asmático severo.</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arcinigenicidad</a:t>
            </a:r>
            <a:r>
              <a:rPr b="0" lang="es-MX" sz="1800" spc="-1" strike="noStrike">
                <a:solidFill>
                  <a:srgbClr val="000000"/>
                </a:solidFill>
                <a:latin typeface="Times New Roman"/>
              </a:rPr>
              <a:t>.- son aquellos que las dependencias nacionales o internacionales del cáncer las denominan así. Algunos materiales son listados como carcinógenos “posibles” ya que la información es limitada.</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Toxicidad</a:t>
            </a:r>
            <a:r>
              <a:rPr b="0" lang="es-MX" sz="1800" spc="-1" strike="noStrike">
                <a:solidFill>
                  <a:srgbClr val="000000"/>
                </a:solidFill>
                <a:latin typeface="Times New Roman"/>
              </a:rPr>
              <a:t> </a:t>
            </a:r>
            <a:r>
              <a:rPr b="1" lang="es-MX" sz="1800" spc="-1" strike="noStrike">
                <a:solidFill>
                  <a:srgbClr val="000000"/>
                </a:solidFill>
                <a:latin typeface="Times New Roman"/>
              </a:rPr>
              <a:t>reproductiva</a:t>
            </a:r>
            <a:r>
              <a:rPr b="0" lang="es-MX" sz="1800" spc="-1" strike="noStrike">
                <a:solidFill>
                  <a:srgbClr val="000000"/>
                </a:solidFill>
                <a:latin typeface="Times New Roman"/>
              </a:rPr>
              <a:t>.- son efectos que pueden afectar el proceso reproductos de machos y/o hembras adultos. Los posibles efectos reproductivos incluyen reducción de la fertilidad y transtornos menstruales</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Teratogenicidad y embriotoxicidad</a:t>
            </a:r>
            <a:r>
              <a:rPr b="0" lang="es-MX" sz="2000" spc="-1" strike="noStrike">
                <a:solidFill>
                  <a:srgbClr val="000000"/>
                </a:solidFill>
                <a:latin typeface="Times New Roman"/>
              </a:rPr>
              <a:t>.- un teratógeno es una sustancia que puede causar defectos de nacimiento no hereditarios. Una embriotoxina induce efectos adversos en la progenie es desarrollo, en el primer período del embarazo, entre la concepción y la etapa feta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Mutagenecidad.- un mutágeno es una sustancia que pued causar cambios en el ADN de las célula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inergia toxicológica</a:t>
            </a:r>
            <a:r>
              <a:rPr b="0" lang="es-MX" sz="2000" spc="-1" strike="noStrike">
                <a:solidFill>
                  <a:srgbClr val="000000"/>
                </a:solidFill>
                <a:latin typeface="Times New Roman"/>
              </a:rPr>
              <a:t>.- el sinergismo es el efecto de dos agentes químicos combinados, el cual es mayor que el efecto producido por la suma de los dos efectos individua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ontrol del ambiente de trabajo</a:t>
            </a:r>
            <a:endParaRPr b="0" lang="en-US" sz="2400" spc="-1" strike="noStrike">
              <a:solidFill>
                <a:srgbClr val="000000"/>
              </a:solidFill>
              <a:latin typeface="Times New Roman"/>
            </a:endParaRPr>
          </a:p>
        </p:txBody>
      </p:sp>
      <p:sp>
        <p:nvSpPr>
          <p:cNvPr id="65"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Objetivo: mantener las condiciones de la atmósfera laboral dentro límites de tolerancia requeridos por el cuerpo humano, o en su defecto informar sobre las condiciones para que el trabajador no sea expuesto a situaciones que rebasen los límites de tolerancia human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el control de los factores se puede, en orden jerárquico:</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ustitución de materiales o procesos por otros de menor riesgo</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ustitución o rediseño de maquinaria o de procesos que generen ruido, vibraciones o calor.</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iminación por extracción en el punto de contacto o general</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isolución de gases y vapores por ventilación general o local</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finamiento o aislamiento de los procesos donde se empleen materiales peligrosos o generen condiciones anormales: temperatura o ruido</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PP</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el diseño de los sistemas de ventilación deben considerarse conjuntamente los factores de concentración ambiental y temperatur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uando el problema sea de remoción de sustancias (polvos, humos, etc.) se debe aplicar sistemas de punto de contacto ya que el uso de campanas puede ser contraproducentes porque puede permitir que el trabajador quede expuesto a los agentes de riesg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iluminación es también de suma importancia. Muchos accidentes se dan por la deficiente iluminación. Deben ser diseñados por especialistas y tomar en cuenta el factor de mantto.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e debe considerar, además de la intensidad, la calidad y el tipo de luz, tomando en cuenta tanto las exigencias cromáticas de la tarea como las necesidades fisiológicas del ojo human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evaluar las variables del ambiente de trabajo se emplean varias técnicas que van desde el uso de termómetros hasta la aplicación de sistemas de medición por absorción atómi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apítulo V </a:t>
            </a:r>
            <a:r>
              <a:rPr b="1" lang="es-MX" sz="2400" spc="-1" strike="noStrike">
                <a:solidFill>
                  <a:srgbClr val="000000"/>
                </a:solidFill>
                <a:latin typeface="Times New Roman"/>
              </a:rPr>
              <a:t>Control de siniestros</a:t>
            </a:r>
            <a:endParaRPr b="0" lang="en-US" sz="2400" spc="-1" strike="noStrike">
              <a:solidFill>
                <a:srgbClr val="000000"/>
              </a:solidFill>
              <a:latin typeface="Times New Roman"/>
            </a:endParaRPr>
          </a:p>
        </p:txBody>
      </p:sp>
      <p:sp>
        <p:nvSpPr>
          <p:cNvPr id="68"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ncendios. El fuego es conocido desde tiempo atrás, al principio estaba relacionado con actividades religiosas y sociales. Ahora es uno de sus principales aliad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Qué se necesita para el fuego? Un combustible, una fuente de calor y oxígen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Teoría básica del fuego: se define como la manifestación combinada de luy¡z y calor, producto de una reacción en cadena entre un agente reductor (combustible) y un oxidante (que cede oxígeno), el aire es lo más comú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fuego no se acaba sino hasta que no se presenta una de las siguiente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 acaba o consume uno de los dos elementos de la reacció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 rompe o irrumpe la reacción en cadena</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el estudio de la prevención de incendios, nos concentramos en la segunda opció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e deben determinar los factores de interacción que inician la reacción:</a:t>
            </a:r>
            <a:endParaRPr b="0" lang="en-US" sz="20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Punto de vaporización</a:t>
            </a:r>
            <a:r>
              <a:rPr b="0" lang="es-MX" sz="1800" spc="-1" strike="noStrike">
                <a:solidFill>
                  <a:srgbClr val="000000"/>
                </a:solidFill>
                <a:latin typeface="Times New Roman"/>
              </a:rPr>
              <a:t>.- temperatura a la que un combustible comienza a  desprender vapores, en el fuego lo que se quema son los vapores, si no hay vapores no hay fuego</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Punto de inflamación</a:t>
            </a:r>
            <a:r>
              <a:rPr b="0" lang="es-MX" sz="1800" spc="-1" strike="noStrike">
                <a:solidFill>
                  <a:srgbClr val="000000"/>
                </a:solidFill>
                <a:latin typeface="Times New Roman"/>
              </a:rPr>
              <a:t>.- temperatura mínima de un líquido combustible a la cual se genera la concentración de vapores suficientes para reaccionar con el oxígeno del aire produciendo fuego.</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Equilibrio de la mezcla</a:t>
            </a:r>
            <a:r>
              <a:rPr b="0" lang="es-MX" sz="1800" spc="-1" strike="noStrike">
                <a:solidFill>
                  <a:srgbClr val="000000"/>
                </a:solidFill>
                <a:latin typeface="Times New Roman"/>
              </a:rPr>
              <a:t>.- aparte de la existencia de los tres elementos del fuego, se necesita que las condiciones de equilibrio sean las adecuadas para el inicio del fuego.</a:t>
            </a:r>
            <a:endParaRPr b="0" lang="en-US" sz="18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incipios de la prevención y combate de incendios</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iseñar sistemas y medidas que permitan evitar la conjunción de los factores para iniciar el fuego. Se utilizan una o varias de las siguientes:</a:t>
            </a:r>
            <a:endParaRPr b="0" lang="en-US" sz="20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vitar las fuentes de calor</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vitar fugas de combustible</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curar adecuada ventilación de los almacenes de materiales combustibles</a:t>
            </a:r>
            <a:endParaRPr b="0" lang="en-US" sz="1800" spc="-1" strike="noStrike">
              <a:solidFill>
                <a:srgbClr val="000000"/>
              </a:solidFill>
              <a:latin typeface="Times New Roman"/>
            </a:endParaRPr>
          </a:p>
          <a:p>
            <a:pPr lvl="1" marL="72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no se puede aplicar ninguna de las opciones anteriores, se procederá, bajo el criterio de restricción del fuego:</a:t>
            </a:r>
            <a:endParaRPr b="0" lang="en-US" sz="2000" spc="-1" strike="noStrike">
              <a:solidFill>
                <a:srgbClr val="000000"/>
              </a:solidFill>
              <a:latin typeface="Times New Roman"/>
            </a:endParaRPr>
          </a:p>
          <a:p>
            <a:pPr lvl="1" marL="990720" indent="-5335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evantar barreras entre fuentees de calor y líneas de combustible</a:t>
            </a:r>
            <a:endParaRPr b="0" lang="en-US" sz="1800" spc="-1" strike="noStrike">
              <a:solidFill>
                <a:srgbClr val="000000"/>
              </a:solidFill>
              <a:latin typeface="Times New Roman"/>
            </a:endParaRPr>
          </a:p>
          <a:p>
            <a:pPr lvl="1" marL="990720" indent="-5335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ambiar las líneas de combustible</a:t>
            </a:r>
            <a:endParaRPr b="0" lang="en-US" sz="1800" spc="-1" strike="noStrike">
              <a:solidFill>
                <a:srgbClr val="000000"/>
              </a:solidFill>
              <a:latin typeface="Times New Roman"/>
            </a:endParaRPr>
          </a:p>
          <a:p>
            <a:pPr lvl="1" marL="990720" indent="-5335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ubicar oeliminar almacenes de materiales combustibles</a:t>
            </a:r>
            <a:endParaRPr b="0" lang="en-US" sz="1800" spc="-1" strike="noStrike">
              <a:solidFill>
                <a:srgbClr val="000000"/>
              </a:solidFill>
              <a:latin typeface="Times New Roman"/>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Principios del combate de incendios</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enfrentarnos a un incendio debemos primero evaluar la situación y sólo con la certeza de poder apagarlo debemos intervenir, sino, evacuar el área. Si se va a intervenir:</a:t>
            </a:r>
            <a:endParaRPr b="0" lang="en-US" sz="2000" spc="-1" strike="noStrike">
              <a:solidFill>
                <a:srgbClr val="000000"/>
              </a:solidFill>
              <a:latin typeface="Times New Roman"/>
            </a:endParaRPr>
          </a:p>
          <a:p>
            <a:pPr lvl="1" marL="990720" indent="-53352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ntes que nada dar la alarma de acuerdo al procedimiento establecido, nunca comenzar a atacarlo solo.</a:t>
            </a:r>
            <a:endParaRPr b="0" lang="en-US" sz="1800" spc="-1" strike="noStrike">
              <a:solidFill>
                <a:srgbClr val="000000"/>
              </a:solidFill>
              <a:latin typeface="Times New Roman"/>
            </a:endParaRPr>
          </a:p>
          <a:p>
            <a:pPr lvl="1" marL="990720" indent="-53352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vacuar al personal del área de fuego</a:t>
            </a:r>
            <a:endParaRPr b="0" lang="en-US" sz="1800" spc="-1" strike="noStrike">
              <a:solidFill>
                <a:srgbClr val="000000"/>
              </a:solidFill>
              <a:latin typeface="Times New Roman"/>
            </a:endParaRPr>
          </a:p>
          <a:p>
            <a:pPr lvl="1" marL="990720" indent="-53352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Tomar el extintor más cercano e iniciar el combate</a:t>
            </a:r>
            <a:endParaRPr b="0" lang="en-US" sz="1800" spc="-1" strike="noStrike">
              <a:solidFill>
                <a:srgbClr val="000000"/>
              </a:solidFill>
              <a:latin typeface="Times New Roman"/>
            </a:endParaRPr>
          </a:p>
          <a:p>
            <a:pPr lvl="1" marL="990720" indent="-53352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 existe Brigada contra incendio, integrarse a ella y seguir instrucciones del jefe de brigada</a:t>
            </a:r>
            <a:endParaRPr b="0" lang="en-US" sz="1800" spc="-1" strike="noStrike">
              <a:solidFill>
                <a:srgbClr val="000000"/>
              </a:solidFill>
              <a:latin typeface="Times New Roman"/>
            </a:endParaRPr>
          </a:p>
          <a:p>
            <a:pPr lvl="1" marL="990720" indent="-53352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 no conoce o sabe de combate contra incendios, aléjese</a:t>
            </a:r>
            <a:endParaRPr b="0" lang="en-US" sz="1800" spc="-1" strike="noStrike">
              <a:solidFill>
                <a:srgbClr val="000000"/>
              </a:solidFill>
              <a:latin typeface="Times New Roman"/>
            </a:endParaRPr>
          </a:p>
          <a:p>
            <a:pPr lvl="1" marL="990720" indent="-53352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án prohibidos los héroes, se requiere gente capacitada y entrenad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onceptos básicos de toxicologí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trabajador está expuesto a una serie de productos de naturaleza tóxica que pueden alterar su salud y su conducta. Para conocerlo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Toxicología industrial</a:t>
            </a:r>
            <a:r>
              <a:rPr b="0" lang="es-MX" sz="1800" spc="-1" strike="noStrike">
                <a:solidFill>
                  <a:srgbClr val="000000"/>
                </a:solidFill>
                <a:latin typeface="Times New Roman"/>
              </a:rPr>
              <a:t>.- estudia los materiales que se emplean en los diferentes procesos, para conocer sus efectos toxicológicos y los niveles de exposición máximos permisibles, sus efectos, medidas de prevención y terapéuticas para desarrollar programas integrales para su uso y seguro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Toxicología conductual</a:t>
            </a:r>
            <a:r>
              <a:rPr b="0" lang="es-MX" sz="1800" spc="-1" strike="noStrike">
                <a:solidFill>
                  <a:srgbClr val="000000"/>
                </a:solidFill>
                <a:latin typeface="Times New Roman"/>
              </a:rPr>
              <a:t>.- comprende la determinación (pruebas psicológicas) del deterioro de la capacidad funcional del sistema nervioso ante agentes neurotóxicos. Su función es proporcionar medios para la detección de los síntomas temprenos o subclínico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iesgos industriales a la salud</a:t>
            </a:r>
            <a:r>
              <a:rPr b="0" lang="es-MX" sz="2000" spc="-1" strike="noStrike">
                <a:solidFill>
                  <a:srgbClr val="000000"/>
                </a:solidFill>
                <a:latin typeface="Times New Roman"/>
              </a:rPr>
              <a:t>: se originan por la exposición del trabajador a las sustancias empleadas en los procesos industriales, a las manifestaciones energéticas de los mismos o por los esfuerzos fisiológicos requeridos para el desarrollo de las tareas que integran el trabajo diar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lasificación del fuego. Internacionalmente según su origen:</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Fuego tipo A: combustibles sólidos (madera, papel) que dejan brasa.</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Fuego tipo B: derivados  líquidos del petróleo (gasolina, diesel, etc.)</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Fuego tipo C: tienen su origen en un problema eléctrico. Nunca agua</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Fuego tipo D: son fuegos en metales combustibl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72" name=""/>
          <p:cNvGraphicFramePr/>
          <p:nvPr/>
        </p:nvGraphicFramePr>
        <p:xfrm>
          <a:off x="228600" y="2362320"/>
          <a:ext cx="8534520" cy="4200480"/>
        </p:xfrm>
        <a:graphic>
          <a:graphicData uri="http://schemas.openxmlformats.org/drawingml/2006/table">
            <a:tbl>
              <a:tblPr/>
              <a:tblGrid>
                <a:gridCol w="960480"/>
                <a:gridCol w="2316240"/>
                <a:gridCol w="2666880"/>
                <a:gridCol w="2590920"/>
              </a:tblGrid>
              <a:tr h="3416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Tipo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Origen o combustib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incipal forma de comb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ecauciones especial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1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Materiales de origen orgánico que producen brasa: papel, et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nfriamiento con agua</a:t>
                      </a:r>
                      <a:endParaRPr b="0" lang="en-US" sz="1400" spc="-1" strike="noStrike">
                        <a:solidFill>
                          <a:srgbClr val="000000"/>
                        </a:solidFill>
                        <a:latin typeface="Times New Roman"/>
                      </a:endParaRPr>
                    </a:p>
                    <a:p>
                      <a:pPr marL="533520" indent="-53352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Agua ligera</a:t>
                      </a:r>
                      <a:endParaRPr b="0" lang="en-US" sz="1400" spc="-1" strike="noStrike">
                        <a:solidFill>
                          <a:srgbClr val="000000"/>
                        </a:solidFill>
                        <a:latin typeface="Times New Roman"/>
                      </a:endParaRPr>
                    </a:p>
                    <a:p>
                      <a:pPr marL="533520" indent="-53352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spuma mecánic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nfriar los edificios e instalaciones ubicados a menos de 30 metro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B</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Derivados del petróleo que normalmente están en estado líquido oq ue se licuen por la acción del cal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olvos químicos</a:t>
                      </a:r>
                      <a:endParaRPr b="0" lang="en-US" sz="1400" spc="-1" strike="noStrike">
                        <a:solidFill>
                          <a:srgbClr val="000000"/>
                        </a:solidFill>
                        <a:latin typeface="Times New Roman"/>
                      </a:endParaRPr>
                    </a:p>
                    <a:p>
                      <a:pPr marL="533520" indent="-53352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Neblinas de agua</a:t>
                      </a:r>
                      <a:endParaRPr b="0" lang="en-US" sz="1400" spc="-1" strike="noStrike">
                        <a:solidFill>
                          <a:srgbClr val="000000"/>
                        </a:solidFill>
                        <a:latin typeface="Times New Roman"/>
                      </a:endParaRPr>
                    </a:p>
                    <a:p>
                      <a:pPr marL="533520" indent="-53352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spumas</a:t>
                      </a:r>
                      <a:endParaRPr b="0" lang="en-US" sz="1400" spc="-1" strike="noStrike">
                        <a:solidFill>
                          <a:srgbClr val="000000"/>
                        </a:solidFill>
                        <a:latin typeface="Times New Roman"/>
                      </a:endParaRPr>
                    </a:p>
                    <a:p>
                      <a:pPr marL="533520" indent="-53352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Neblina de agua liger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Racionalizar el uso de agua para evitar derrames</a:t>
                      </a:r>
                      <a:endParaRPr b="0" lang="en-US" sz="1400" spc="-1" strike="noStrike">
                        <a:solidFill>
                          <a:srgbClr val="000000"/>
                        </a:solidFill>
                        <a:latin typeface="Times New Roman"/>
                      </a:endParaRPr>
                    </a:p>
                    <a:p>
                      <a:pPr marL="533520" indent="-53352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nfriar los recipientes</a:t>
                      </a:r>
                      <a:endParaRPr b="0" lang="en-US" sz="1400" spc="-1" strike="noStrike">
                        <a:solidFill>
                          <a:srgbClr val="000000"/>
                        </a:solidFill>
                        <a:latin typeface="Times New Roman"/>
                      </a:endParaRPr>
                    </a:p>
                    <a:p>
                      <a:pPr marL="533520" indent="-53352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Cortar líneas de alimentación de combustibl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roblemas eléctrico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De acuerdo al material combustibl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Cortar alimentación eléctrica</a:t>
                      </a:r>
                      <a:endParaRPr b="0" lang="en-US" sz="1400" spc="-1" strike="noStrike">
                        <a:solidFill>
                          <a:srgbClr val="000000"/>
                        </a:solidFill>
                        <a:latin typeface="Times New Roman"/>
                      </a:endParaRPr>
                    </a:p>
                    <a:p>
                      <a:pPr marL="533520" indent="-53352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Aplicar  precauciones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Metales combustibles: magnesio, titanio, zirconio, sodio, litio y  potasi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Agente extinguidor especial para cada tipo de mater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ersonal capacitado</a:t>
                      </a:r>
                      <a:endParaRPr b="0" lang="en-US" sz="1400" spc="-1" strike="noStrike">
                        <a:solidFill>
                          <a:srgbClr val="000000"/>
                        </a:solidFill>
                        <a:latin typeface="Times New Roman"/>
                      </a:endParaRPr>
                    </a:p>
                    <a:p>
                      <a:pPr marL="533520" indent="-53352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os agentes extinguidores deben estar a la mano</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xtintores: siempre  deben existir en toda empresa, independientemente de que exista sistema automático, extintores manua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ben estar marcados así como sus ubicaciones y deben indicar para qué tipo de fuego pueden ser utilizado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señalización se hace con un letrero con un símbolo y una flecha señalando dónde está el extint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marcas se aplican directamente sobre el extintor con calcomanías o pintura al frente del extintor y arriba de la etiqueta del mismo, de un tamaño y forma que puedan leerse a cuando menos 5 m de distanci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señales que indiquen extintores en muros, paredes, columnas, deberán leerse a cuando menos 7.5 m de distancia.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Todos los extintores deben estar numerad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pegarse a la norma NOM-027-STPS-199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número de extintores contra incendio dependerá de: área de construcción, distribución de los edificios, gravedad del riesgo, posibles clases de incendios, área a cubrir con los extintor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áreas se clasifican como:</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Riesgo bajo</a:t>
            </a:r>
            <a:r>
              <a:rPr b="0" lang="es-MX" sz="1800" spc="-1" strike="noStrike">
                <a:solidFill>
                  <a:srgbClr val="000000"/>
                </a:solidFill>
                <a:latin typeface="Times New Roman"/>
              </a:rPr>
              <a:t>.- centros de trabajo donde existen combustibles que producen fuego tipo A y en baja cantidad y su punto de inflamación sea superior a 93 º C. Se consideran también así cuando existen pequeñas cantidades de materiales inflamables que producen fuego tipo B usados en máquinas duplicadoras, imprentas y departamentos de art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Riesgo medio</a:t>
            </a:r>
            <a:r>
              <a:rPr b="0" lang="es-MX" sz="1800" spc="-1" strike="noStrike">
                <a:solidFill>
                  <a:srgbClr val="000000"/>
                </a:solidFill>
                <a:latin typeface="Times New Roman"/>
              </a:rPr>
              <a:t>.- donde se fabriquen y/o manejen mercancías, materias primas, etc., cuyo punto de inflamación sea inferior a 93ºC y/o hayan materiales tipo A y B en grandes cantidades. Oficinas, salones de clase, almacenes con alimentos, mercancías, que estén sobre tarimas o plataformas combustibl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Riesgo alto</a:t>
            </a:r>
            <a:r>
              <a:rPr b="0" lang="es-MX" sz="1800" spc="-1" strike="noStrike">
                <a:solidFill>
                  <a:srgbClr val="000000"/>
                </a:solidFill>
                <a:latin typeface="Times New Roman"/>
              </a:rPr>
              <a:t>.-donde se fabriquen o almacenen cualquier mercancía, materia prima, etc., como:</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Líquidos y gases con punto de inflamación igual o menor de 37.8%; polvos o fibras combustibles en suspensión; materiales pirofóricos; explosivos; materiales que aceleren la reacción química que genere calor o aquellas otras que al combinarse impliquen riesgo de incendio o explos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n extintor que puede ser adecuado para un tipo de incendio, puede ser peligroso para otro. Para seleccionar un extintor por su tamaño:</a:t>
            </a:r>
            <a:endParaRPr b="0" lang="en-US" sz="20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Portátiles</a:t>
            </a:r>
            <a:r>
              <a:rPr b="0" lang="es-MX" sz="1600" spc="-1" strike="noStrike">
                <a:solidFill>
                  <a:srgbClr val="000000"/>
                </a:solidFill>
                <a:latin typeface="Times New Roman"/>
              </a:rPr>
              <a:t>.- pueden ser transportados y operados por una sola persona (&lt;20 K)</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Móviles</a:t>
            </a:r>
            <a:r>
              <a:rPr b="0" lang="es-MX" sz="1600" spc="-1" strike="noStrike">
                <a:solidFill>
                  <a:srgbClr val="000000"/>
                </a:solidFill>
                <a:latin typeface="Times New Roman"/>
              </a:rPr>
              <a:t>.- exceden de 20 K y tienen ruedas. Se necesitan dos personas</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Fijos</a:t>
            </a:r>
            <a:r>
              <a:rPr b="0" lang="es-MX" sz="1600" spc="-1" strike="noStrike">
                <a:solidFill>
                  <a:srgbClr val="000000"/>
                </a:solidFill>
                <a:latin typeface="Times New Roman"/>
              </a:rPr>
              <a:t>.- se diseñan para la protección de un riesgo específico. </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arrotanques</a:t>
            </a:r>
            <a:r>
              <a:rPr b="0" lang="es-MX" sz="1600" spc="-1" strike="noStrike">
                <a:solidFill>
                  <a:srgbClr val="000000"/>
                </a:solidFill>
                <a:latin typeface="Times New Roman"/>
              </a:rPr>
              <a:t>.- instalados sobre un vehículo para poder desplazarlos.</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decidir el equipo de extinción se debe indicar en un inventario:</a:t>
            </a:r>
            <a:endParaRPr b="0" lang="en-US" sz="20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Tipo de combustible o fuego probable</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antidad de combustible o extensión del riesgo expuesto</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asillos de acceso y rutas de escape</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Riesgos en las colindancias</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Tipos de extintore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 agentes secos.- sustancias químicas finamente pulverizadas. El contenido puede variar desde .75 K hasta 560 K.  Son do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Tipo</a:t>
            </a:r>
            <a:r>
              <a:rPr b="1" lang="es-MX" sz="1600" spc="-1" strike="noStrike">
                <a:solidFill>
                  <a:srgbClr val="000000"/>
                </a:solidFill>
                <a:latin typeface="Times New Roman"/>
              </a:rPr>
              <a:t> BC </a:t>
            </a:r>
            <a:r>
              <a:rPr b="0" lang="es-MX" sz="1600" spc="-1" strike="noStrike">
                <a:solidFill>
                  <a:srgbClr val="000000"/>
                </a:solidFill>
                <a:latin typeface="Times New Roman"/>
              </a:rPr>
              <a:t>cuyo contenido principal es el bicarbonato de sodio</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Tipo </a:t>
            </a:r>
            <a:r>
              <a:rPr b="1" lang="es-MX" sz="1600" spc="-1" strike="noStrike">
                <a:solidFill>
                  <a:srgbClr val="000000"/>
                </a:solidFill>
                <a:latin typeface="Times New Roman"/>
              </a:rPr>
              <a:t>ABC</a:t>
            </a:r>
            <a:r>
              <a:rPr b="0" lang="es-MX" sz="1600" spc="-1" strike="noStrike">
                <a:solidFill>
                  <a:srgbClr val="000000"/>
                </a:solidFill>
                <a:latin typeface="Times New Roman"/>
              </a:rPr>
              <a:t> con polvo basado en fosfato mono amónic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capacidad extinguidora de un equipo dependerá de:</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Habilidad del usuario</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alidad del material (polvo)</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antidad del polvo contenido</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antenimiento del equipo</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Uso oportuno</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xtintores de agua</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mbos tipos de extintores pueden ser de </a:t>
            </a:r>
            <a:r>
              <a:rPr b="1" lang="es-MX" sz="2000" spc="-1" strike="noStrike">
                <a:solidFill>
                  <a:srgbClr val="000000"/>
                </a:solidFill>
                <a:latin typeface="Times New Roman"/>
              </a:rPr>
              <a:t>presión contenida</a:t>
            </a:r>
            <a:r>
              <a:rPr b="0" lang="es-MX" sz="2000" spc="-1" strike="noStrike">
                <a:solidFill>
                  <a:srgbClr val="000000"/>
                </a:solidFill>
                <a:latin typeface="Times New Roman"/>
              </a:rPr>
              <a:t> (llevan una cámara de nitrógeno a presión y cuentan con un manómetro para ver si tienen la carga del gas completa) o de </a:t>
            </a:r>
            <a:r>
              <a:rPr b="1" lang="es-MX" sz="2000" spc="-1" strike="noStrike">
                <a:solidFill>
                  <a:srgbClr val="000000"/>
                </a:solidFill>
                <a:latin typeface="Times New Roman"/>
              </a:rPr>
              <a:t>cartucho</a:t>
            </a:r>
            <a:r>
              <a:rPr b="0" lang="es-MX" sz="2000" spc="-1" strike="noStrike">
                <a:solidFill>
                  <a:srgbClr val="000000"/>
                </a:solidFill>
                <a:latin typeface="Times New Roman"/>
              </a:rPr>
              <a:t> que tienen su carga a presión atmosférica y para expulsarla se perfora una membrana de un cartucho de ga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los incendios tipo C se tienen los de </a:t>
            </a:r>
            <a:r>
              <a:rPr b="1" lang="es-MX" sz="2000" spc="-1" strike="noStrike">
                <a:solidFill>
                  <a:srgbClr val="000000"/>
                </a:solidFill>
                <a:latin typeface="Times New Roman"/>
              </a:rPr>
              <a:t>líquido vaporizante</a:t>
            </a:r>
            <a:r>
              <a:rPr b="0" lang="es-MX" sz="2000" spc="-1" strike="noStrike">
                <a:solidFill>
                  <a:srgbClr val="000000"/>
                </a:solidFill>
                <a:latin typeface="Times New Roman"/>
              </a:rPr>
              <a:t> cuyo agente de extinción es líquido y que a la presión atmosférica forma una nube de polvo densa y asfixiante. Otros son los de gas (principalmente bióxido de carbono) muy pesados y de baja capacidad pero no son contaminantes como los anterior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su instalación los extintores deben estar en lugares fijos cumpliendo con las siguientes indicacione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Portátiles manuales</a:t>
            </a:r>
            <a:r>
              <a:rPr b="0" lang="es-MX" sz="1800" spc="-1" strike="noStrike">
                <a:solidFill>
                  <a:srgbClr val="000000"/>
                </a:solidFill>
                <a:latin typeface="Times New Roman"/>
              </a:rPr>
              <a:t>.- colocarse a una distancia no mayor de 15 m uno de otro; altura máxima 1.50 m (hasta la parte más alta del extintor); la temperatura no debe exceder de los 50ºC ni menor de 0ºC</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Móviles.-</a:t>
            </a:r>
            <a:r>
              <a:rPr b="0" lang="es-MX" sz="1800" spc="-1" strike="noStrike">
                <a:solidFill>
                  <a:srgbClr val="000000"/>
                </a:solidFill>
                <a:latin typeface="Times New Roman"/>
              </a:rPr>
              <a:t> estar protegidos de la interperie; colocarse en lugares visibles; temperatura &lt; 50ºC y nunca menor de 0ºC</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Fijos</a:t>
            </a:r>
            <a:r>
              <a:rPr b="0" lang="es-MX" sz="1800" spc="-1" strike="noStrike">
                <a:solidFill>
                  <a:srgbClr val="000000"/>
                </a:solidFill>
                <a:latin typeface="Times New Roman"/>
              </a:rPr>
              <a:t>.- protegidos de la interperie; los dispositivos a operar deben ser de fácil acceso; señalar el sitio donde estarán ubicados; tener fuente autónoma de suministro de energía; en caso de sistemas automáticos, deben contar con un control manual para iniciar su funcionamiento.</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Todo equipo contra incendio debe verificars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iario</a:t>
            </a:r>
            <a:r>
              <a:rPr b="0" lang="es-MX" sz="1800" spc="-1" strike="noStrike">
                <a:solidFill>
                  <a:srgbClr val="000000"/>
                </a:solidFill>
                <a:latin typeface="Times New Roman"/>
              </a:rPr>
              <a:t>.- localización, señalamiento, lectura del manómetro, accesibilida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Semanal</a:t>
            </a:r>
            <a:r>
              <a:rPr b="0" lang="es-MX" sz="1800" spc="-1" strike="noStrike">
                <a:solidFill>
                  <a:srgbClr val="000000"/>
                </a:solidFill>
                <a:latin typeface="Times New Roman"/>
              </a:rPr>
              <a:t>.- limpieza general, obstrucciones de la boquilla, sello del seguro.</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Mensual</a:t>
            </a:r>
            <a:r>
              <a:rPr b="0" lang="es-MX" sz="1800" spc="-1" strike="noStrike">
                <a:solidFill>
                  <a:srgbClr val="000000"/>
                </a:solidFill>
                <a:latin typeface="Times New Roman"/>
              </a:rPr>
              <a:t>.- fluidez de su contenido (agitar), concordancia con tipo y magnitud de riesgo a proteger.</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Anual</a:t>
            </a:r>
            <a:r>
              <a:rPr b="0" lang="es-MX" sz="1800" spc="-1" strike="noStrike">
                <a:solidFill>
                  <a:srgbClr val="000000"/>
                </a:solidFill>
                <a:latin typeface="Times New Roman"/>
              </a:rPr>
              <a:t>.- mantenimiento general, cambio de carga, vías de acceso.</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revención de incendios</a:t>
            </a:r>
            <a:endParaRPr b="0" lang="en-US" sz="24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evenir es mejor que combatir. Se recomienda lista de verificación. Para esto se necesita: Conocimiento profundo de las posibles causas de siniestro y de la sintomatología de su presencia.</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l diseñar las listas debe considerarse el tíángulo del fuego y usarlo como factor de clasificación:</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Oxígeno </a:t>
            </a:r>
            <a:endParaRPr b="0" lang="en-US" sz="18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Fugas de oxígeno</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Fugas de línea de aire</a:t>
            </a:r>
            <a:endParaRPr b="0" lang="en-US" sz="16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mbustible </a:t>
            </a:r>
            <a:endParaRPr b="0" lang="en-US" sz="18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Acumulación de basura</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Fugas de grasa o aceite</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Fugas de combustible</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ateriales inflamables en empaques, mobiliario o instalaciones</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Basureros y drenajes</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ateriales de alto poder de reacción</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oductos químicos inestables</a:t>
            </a:r>
            <a:endParaRPr b="0" lang="en-US" sz="1600" spc="-1" strike="noStrike">
              <a:solidFill>
                <a:srgbClr val="000000"/>
              </a:solidFill>
              <a:latin typeface="Times New Roman"/>
            </a:endParaRPr>
          </a:p>
          <a:p>
            <a:pPr lvl="1" marL="735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lvl="1" marL="990720" indent="-5335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alor</a:t>
            </a:r>
            <a:endParaRPr b="0" lang="en-US" sz="1600" spc="-1" strike="noStrike">
              <a:solidFill>
                <a:srgbClr val="000000"/>
              </a:solidFill>
              <a:latin typeface="Times New Roman"/>
            </a:endParaRPr>
          </a:p>
          <a:p>
            <a:pPr lvl="2" marL="1371600" indent="-4572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íneas eléctricas sobrecargadas</a:t>
            </a:r>
            <a:endParaRPr b="0" lang="en-US" sz="1400" spc="-1" strike="noStrike">
              <a:solidFill>
                <a:srgbClr val="000000"/>
              </a:solidFill>
              <a:latin typeface="Times New Roman"/>
            </a:endParaRPr>
          </a:p>
          <a:p>
            <a:pPr lvl="2" marL="1371600" indent="-4572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íneas de vapor sin aislar</a:t>
            </a:r>
            <a:endParaRPr b="0" lang="en-US" sz="1400" spc="-1" strike="noStrike">
              <a:solidFill>
                <a:srgbClr val="000000"/>
              </a:solidFill>
              <a:latin typeface="Times New Roman"/>
            </a:endParaRPr>
          </a:p>
          <a:p>
            <a:pPr lvl="2" marL="1371600" indent="-4572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Hornos y chimeneas</a:t>
            </a:r>
            <a:endParaRPr b="0" lang="en-US" sz="1400" spc="-1" strike="noStrike">
              <a:solidFill>
                <a:srgbClr val="000000"/>
              </a:solidFill>
              <a:latin typeface="Times New Roman"/>
            </a:endParaRPr>
          </a:p>
          <a:p>
            <a:pPr lvl="2" marL="1371600" indent="-4572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artes sometidas a fricción</a:t>
            </a:r>
            <a:endParaRPr b="0" lang="en-US" sz="1400" spc="-1" strike="noStrike">
              <a:solidFill>
                <a:srgbClr val="000000"/>
              </a:solidFill>
              <a:latin typeface="Times New Roman"/>
            </a:endParaRPr>
          </a:p>
          <a:p>
            <a:pPr lvl="2" marL="1371600" indent="-4572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rocesos de soldadura y fusión</a:t>
            </a:r>
            <a:endParaRPr b="0" lang="en-US" sz="1400" spc="-1" strike="noStrike">
              <a:solidFill>
                <a:srgbClr val="000000"/>
              </a:solidFill>
              <a:latin typeface="Times New Roman"/>
            </a:endParaRPr>
          </a:p>
          <a:p>
            <a:pPr marL="609480" indent="-60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os pasos a seguir para las listas son:</a:t>
            </a:r>
            <a:endParaRPr b="0" lang="en-US" sz="1800" spc="-1" strike="noStrike">
              <a:solidFill>
                <a:srgbClr val="000000"/>
              </a:solidFill>
              <a:latin typeface="Times New Roman"/>
            </a:endParaRPr>
          </a:p>
          <a:p>
            <a:pPr lvl="1" marL="990720" indent="-53352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dentificar y localizar los riesgos</a:t>
            </a:r>
            <a:endParaRPr b="0" lang="en-US" sz="1600" spc="-1" strike="noStrike">
              <a:solidFill>
                <a:srgbClr val="000000"/>
              </a:solidFill>
              <a:latin typeface="Times New Roman"/>
            </a:endParaRPr>
          </a:p>
          <a:p>
            <a:pPr lvl="1" marL="990720" indent="-53352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lasificar los riesgos según su naturaleza (A, B, C)</a:t>
            </a:r>
            <a:endParaRPr b="0" lang="en-US" sz="1600" spc="-1" strike="noStrike">
              <a:solidFill>
                <a:srgbClr val="000000"/>
              </a:solidFill>
              <a:latin typeface="Times New Roman"/>
            </a:endParaRPr>
          </a:p>
          <a:p>
            <a:pPr lvl="1" marL="990720" indent="-53352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Tipificar los riesgos según su potencialidad y probabilidad</a:t>
            </a:r>
            <a:endParaRPr b="0" lang="en-US" sz="1600" spc="-1" strike="noStrike">
              <a:solidFill>
                <a:srgbClr val="000000"/>
              </a:solidFill>
              <a:latin typeface="Times New Roman"/>
            </a:endParaRPr>
          </a:p>
          <a:p>
            <a:pPr lvl="1" marL="990720" indent="-53352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stablecer los períodos de inspección</a:t>
            </a:r>
            <a:endParaRPr b="0" lang="en-US" sz="1600" spc="-1" strike="noStrike">
              <a:solidFill>
                <a:srgbClr val="000000"/>
              </a:solidFill>
              <a:latin typeface="Times New Roman"/>
            </a:endParaRPr>
          </a:p>
          <a:p>
            <a:pPr lvl="1" marL="990720" indent="-53352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eterminar los puntos y parámetros de verificación</a:t>
            </a:r>
            <a:endParaRPr b="0" lang="en-US" sz="1600" spc="-1" strike="noStrike">
              <a:solidFill>
                <a:srgbClr val="000000"/>
              </a:solidFill>
              <a:latin typeface="Times New Roman"/>
            </a:endParaRPr>
          </a:p>
          <a:p>
            <a:pPr lvl="1" marL="990720" indent="-53352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Zonificar los riesgos de acuerdo a un criterio geeográfico predefinido</a:t>
            </a:r>
            <a:endParaRPr b="0" lang="en-US" sz="1600" spc="-1" strike="noStrike">
              <a:solidFill>
                <a:srgbClr val="000000"/>
              </a:solidFill>
              <a:latin typeface="Times New Roman"/>
            </a:endParaRPr>
          </a:p>
          <a:p>
            <a:pPr lvl="1" marL="990720" indent="-53352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laborar las listas por la naturaleza, zona y período de inspección del fuego</a:t>
            </a:r>
            <a:endParaRPr b="0" lang="en-US" sz="1600" spc="-1" strike="noStrike">
              <a:solidFill>
                <a:srgbClr val="000000"/>
              </a:solidFill>
              <a:latin typeface="Times New Roman"/>
            </a:endParaRPr>
          </a:p>
          <a:p>
            <a:pPr lvl="1" marL="990720" indent="-53352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stablecer los métodos de verificación, las respuestas consideradas como “correctas” y probar las  listas</a:t>
            </a:r>
            <a:endParaRPr b="0" lang="en-US" sz="1600" spc="-1" strike="noStrike">
              <a:solidFill>
                <a:srgbClr val="000000"/>
              </a:solidFill>
              <a:latin typeface="Times New Roman"/>
            </a:endParaRPr>
          </a:p>
          <a:p>
            <a:pPr lvl="1" marL="990720" indent="-53352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efinir canales de comunicación de los resultados</a:t>
            </a:r>
            <a:endParaRPr b="0" lang="en-US" sz="1600" spc="-1" strike="noStrike">
              <a:solidFill>
                <a:srgbClr val="000000"/>
              </a:solidFill>
              <a:latin typeface="Times New Roman"/>
            </a:endParaRPr>
          </a:p>
          <a:p>
            <a:pPr lvl="1" marL="990720" indent="-53352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stablecer programas de verificaciones y asignar responsabilida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Otros siniestr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ncargado de la seguridad de una planta debe considerar la posibilidad de ocurrencia de otros siniestros que pudieran causar daños masivos y cuyo origen no esté en los procesos de la propia plant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rrames</a:t>
            </a:r>
            <a:r>
              <a:rPr b="0" lang="es-MX" sz="1800" spc="-1" strike="noStrike">
                <a:solidFill>
                  <a:srgbClr val="000000"/>
                </a:solidFill>
                <a:latin typeface="Times New Roman"/>
              </a:rPr>
              <a:t>.- almacenamiento de grandes volúmenes de líquidos o granos y arenas. Si es interno investigar características tóxicas y explosivas. Deben existir diques de contención alrededor de los tanques de almacenamiento. Si es externo cavar zanjas alrededor de la planta; en la parte más alta, establecer un área de seguridad. </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Si los materiales son de riesgo de incendio o explosión, debe contar con sistemas y rutas de evacuació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Explosión</a:t>
            </a:r>
            <a:r>
              <a:rPr b="0" lang="es-MX" sz="1800" spc="-1" strike="noStrike">
                <a:solidFill>
                  <a:srgbClr val="000000"/>
                </a:solidFill>
                <a:latin typeface="Times New Roman"/>
              </a:rPr>
              <a:t>.- es la reacción violenta de sustancias combustibles. Debe contarse con construcciones especiales para el almacenamiento de acuerdo a normas y especificaciones de la Secretaría de defensa nacional.</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Fenómenos naturales</a:t>
            </a:r>
            <a:r>
              <a:rPr b="0" lang="es-MX" sz="1800" spc="-1" strike="noStrike">
                <a:solidFill>
                  <a:srgbClr val="000000"/>
                </a:solidFill>
                <a:latin typeface="Times New Roman"/>
              </a:rPr>
              <a:t>.- huracanes, terremotos, inundaciones por desbordamiento de ríos, deslaves y deslizamientos, explosiones volcánic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Brigadas de emergencia</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on grupos de personas entrenadas para situaciones específicas de emergencia y cada personas debe reunir los siguientes requisitos:</a:t>
            </a:r>
            <a:endParaRPr b="0" lang="en-US" sz="2000" spc="-1" strike="noStrike">
              <a:solidFill>
                <a:srgbClr val="000000"/>
              </a:solidFill>
              <a:latin typeface="Times New Roman"/>
            </a:endParaRPr>
          </a:p>
          <a:p>
            <a:pPr lvl="1" marL="990720" indent="-53352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aber leer y escribircon nivel mínimo de secundaria</a:t>
            </a:r>
            <a:endParaRPr b="0" lang="en-US" sz="1800" spc="-1" strike="noStrike">
              <a:solidFill>
                <a:srgbClr val="000000"/>
              </a:solidFill>
              <a:latin typeface="Times New Roman"/>
            </a:endParaRPr>
          </a:p>
          <a:p>
            <a:pPr lvl="1" marL="990720" indent="-53352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Tener la voluntad y el deseo de pertenecer a la brigada</a:t>
            </a:r>
            <a:endParaRPr b="0" lang="en-US" sz="1800" spc="-1" strike="noStrike">
              <a:solidFill>
                <a:srgbClr val="000000"/>
              </a:solidFill>
              <a:latin typeface="Times New Roman"/>
            </a:endParaRPr>
          </a:p>
          <a:p>
            <a:pPr lvl="1" marL="990720" indent="-53352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Tomar los cursos de capacitación y adiestramiento requeridos</a:t>
            </a:r>
            <a:endParaRPr b="0" lang="en-US" sz="1800" spc="-1" strike="noStrike">
              <a:solidFill>
                <a:srgbClr val="000000"/>
              </a:solidFill>
              <a:latin typeface="Times New Roman"/>
            </a:endParaRPr>
          </a:p>
          <a:p>
            <a:pPr lvl="1" marL="990720" indent="-53352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articipar en las prácticas y simulacros</a:t>
            </a:r>
            <a:endParaRPr b="0" lang="en-US" sz="1800" spc="-1" strike="noStrike">
              <a:solidFill>
                <a:srgbClr val="000000"/>
              </a:solidFill>
              <a:latin typeface="Times New Roman"/>
            </a:endParaRPr>
          </a:p>
          <a:p>
            <a:pPr lvl="1" marL="990720" indent="-53352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umplir con las tareas auxiliares establecidas</a:t>
            </a:r>
            <a:endParaRPr b="0" lang="en-US" sz="1800" spc="-1" strike="noStrike">
              <a:solidFill>
                <a:srgbClr val="000000"/>
              </a:solidFill>
              <a:latin typeface="Times New Roman"/>
            </a:endParaRPr>
          </a:p>
          <a:p>
            <a:pPr lvl="1" marL="990720" indent="-53352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oseer condición física adecuada</a:t>
            </a:r>
            <a:endParaRPr b="0" lang="en-US" sz="1800" spc="-1" strike="noStrike">
              <a:solidFill>
                <a:srgbClr val="000000"/>
              </a:solidFill>
              <a:latin typeface="Times New Roman"/>
            </a:endParaRPr>
          </a:p>
          <a:p>
            <a:pPr lvl="1" marL="990720" indent="-53352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píritu de servicio</a:t>
            </a:r>
            <a:endParaRPr b="0" lang="en-US" sz="1800" spc="-1" strike="noStrike">
              <a:solidFill>
                <a:srgbClr val="000000"/>
              </a:solidFill>
              <a:latin typeface="Times New Roman"/>
            </a:endParaRPr>
          </a:p>
          <a:p>
            <a:pPr lvl="1" marL="990720" indent="-53352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Gozar de simpatía entre sus compañeros</a:t>
            </a:r>
            <a:endParaRPr b="0" lang="en-US" sz="1800" spc="-1" strike="noStrike">
              <a:solidFill>
                <a:srgbClr val="000000"/>
              </a:solidFill>
              <a:latin typeface="Times New Roman"/>
            </a:endParaRPr>
          </a:p>
          <a:p>
            <a:pPr lvl="1" marL="990720" indent="-53352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erfil de líder con capacidad de autoridad</a:t>
            </a:r>
            <a:endParaRPr b="0" lang="en-US" sz="18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da brigada debe tener un programa de prácticas y simulacros para garantizar su adecuado comportamiento y coordinación.</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e recomienda sea rotativ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sustancias químicas pueden causar daño tanto en el punto de contacto, por absorción dentro del cuerpo o ambas. Pueden afectar sus sistemas y órganos alejados del punto de contacto. </a:t>
            </a:r>
            <a:r>
              <a:rPr b="0" i="1" lang="es-MX" sz="2000" spc="-1" strike="noStrike">
                <a:solidFill>
                  <a:srgbClr val="000000"/>
                </a:solidFill>
                <a:latin typeface="Times New Roman"/>
              </a:rPr>
              <a:t>El fenol absorbido por la piel puede causar daños fatales al sistema nervioso y al hígado</a:t>
            </a:r>
            <a:r>
              <a:rPr b="0" lang="es-MX"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sustancias se encuentran en el trabajo en forma de humos, vapores, polvos o neblinas y sus vías de entrada: sistema digestivo, aparato respiratorio o la piel.</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Manifestaciones energéticas más comunes: radiaciones infrarroja y ultravioleta, radiaciones ionizantes, el ruido y las vibraciones y la temperatur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esfuerzos fisiológicos: sudación o transpiración, trabajo muscular y la percepción discriminatori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toxicología ayuda a la seguridad industrial proporcionando información en:</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ombres técnico y comunes de las sustancias y ,material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atología que pueden producir; vías de entrada al organismo; concentraciones máximas permisibles, según vía de entrada y u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imulacr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be existir un programa establecido de simulacros que permitan ejercitar a las brigadas y verificar la comprensión y efectividad de los procedimientos diseñad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e recomienda que, de ser posible, algunos simulacros se realicen sin el previo conocimiento del personal (nivel gerencia y personal en coordinación con los servicios públicos de emergencia sí deben tener conocimient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programa de simulacros debe ser independiente de los programas de capacitación de cada una de las brigadas y deben servir para calificar a cada una de ella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e debe recalcar que en los simulacros se debe evitar cualquier situación que pudiere ocasionar daños o lesiones por pánico, imprudencia o desconocimiento. Todo el personal debe conocer los procedimientos a segui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fontScale="98000"/>
          </a:bodyPr>
          <a:p>
            <a:pPr marL="335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Tipos de brigadas</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Brigadas contra incendio</a:t>
            </a:r>
            <a:r>
              <a:rPr b="0" lang="es-MX" sz="2000" spc="-1" strike="noStrike">
                <a:solidFill>
                  <a:srgbClr val="000000"/>
                </a:solidFill>
                <a:latin typeface="Times New Roman"/>
              </a:rPr>
              <a:t>.- además de su obvia tarea deben ayudar en:</a:t>
            </a:r>
            <a:endParaRPr b="0"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Verificar el buen estado de los equipos y sistemas contra incendio</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diestrar al personal en el uso y manejo de extintores portátiles</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Verificar y mantener los equipos de bomberos y sus herramientas auxiliares</a:t>
            </a: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Brigadas de primeros auxilios</a:t>
            </a:r>
            <a:r>
              <a:rPr b="0" lang="es-MX" sz="2000" spc="-1" strike="noStrike">
                <a:solidFill>
                  <a:srgbClr val="000000"/>
                </a:solidFill>
                <a:latin typeface="Times New Roman"/>
              </a:rPr>
              <a:t>.- encargada de atender a los lesionados con las técnicas de primeros auxilios en tanto se les atienda por personal médico o se les transporta a un centro de atención médica.</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No debe intentar curar a un lesionado solamente primeros auxilios y puede ayudar en: </a:t>
            </a:r>
            <a:endParaRPr b="0"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trolar y verificar los botiquines de primeros auxilios</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laborar en el control y desarrollo de campañas de medicina preventiva e higiene</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articipar en los programas de capacitación general de primeros auxili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Brigadas de evacuación y rescate</a:t>
            </a:r>
            <a:r>
              <a:rPr b="0" lang="es-MX" sz="2000" spc="-1" strike="noStrike">
                <a:solidFill>
                  <a:srgbClr val="000000"/>
                </a:solidFill>
                <a:latin typeface="Times New Roman"/>
              </a:rPr>
              <a:t>.- su función es guíar y ayudar al personal a llegar a un lugar seguro, rescatar y transportar personal que haya quedado atrapado o imposibilitado de moverse solo. Pueden ayudar en:</a:t>
            </a:r>
            <a:endParaRPr b="0" lang="en-US" sz="20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Verificar y mantener los equipos de rescate y transporte de lesionados</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laborar en el diseño de rutas y métodos de evacuación y rescate</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ivulgar los programas y sistemas de emergencia</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ersonal de brigadas debe portar durante su trabajo, distintivos que lo indentifiquen como miembro de determinada brigada y su categoría en la misma</a:t>
            </a:r>
            <a:endParaRPr b="0" lang="en-US" sz="18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Tanto la gerencia como el personal de brigadas deben de conocer los planes de protección civil establecidos por las autoridades de su localidad, así como los planes federales DN-II y DN-III.</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algunos casos, en algunas situaciones  de emergencia, se establece que el control y combate quedaría bajo las órdenes de las Autoridades oficiales.</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algunos casos, para descuentos, las aseguradoras exigen el establecimiento de brigadas y la evidencia de su capacitación y entrenami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Residuos peligroso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mayoría de las empresas son generadoras de residuos considerados peligroso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be existir un contrato con empresas que se dediquen a la recolección y disposición de estos residuos. Estas, a su vez, deben emitir un comprobante de la recolección y deben estar autorizadas para ello.</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residuos más comunes son:</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Baterías (acumuladores)</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opas</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siduos de derivados del petróleo</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ustancias específicas utilizadas en el proceso (níquel, plomo,  etc.)</a:t>
            </a:r>
            <a:endParaRPr b="0"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residuos deben de alguna manera llegar a un punto final para su destrucción o confinami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SEMARNAP es un organismo que vigila estrictamente el cumplimiento de la disposición de los residuos peligros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empresa debe registrarse como planta generadora de residuos peligrosos y si no lo hace puede ser sancionad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urante su permanencia en la planta, los residuos deben estar plenamente identificados y estar en lugares destinados específicamente para tal efect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personal encargado del manejo de estas sustancias debe estar capacitado y enterado de las características toxicológicas de cada una de ella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ncargado de Seguridad está obligado a enseñar ante las autoridades que se lo exijan, los comprobantes de la recolección así como el registro ante la SEMARNA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Técnicas de prevención</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empresas con sistemas establecidos de seguridad para la prevención de sus riesgos son empresas con ventajas contra las que no los tiene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ntes de poder planear o diseñar los sistemas de prevención, se debe conocer la mecánica de cada uno de los riesgos. Las formas comunes de acción de los diferentes riesgos son:</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Por contacto</a:t>
            </a:r>
            <a:r>
              <a:rPr b="0" lang="es-MX" sz="1800" spc="-1" strike="noStrike">
                <a:solidFill>
                  <a:srgbClr val="000000"/>
                </a:solidFill>
                <a:latin typeface="Times New Roman"/>
              </a:rPr>
              <a:t>.- una pared caliente, un líquido al que se pueda caer, una cadena o banda de transmisión con la que se pueda rozar, una cuchilla, una línea eléctrica que se pueda tocar, una sustancia que pueda ser absorbida por la piel.</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Por alcance</a:t>
            </a:r>
            <a:r>
              <a:rPr b="0" lang="es-MX" sz="1800" spc="-1" strike="noStrike">
                <a:solidFill>
                  <a:srgbClr val="000000"/>
                </a:solidFill>
                <a:latin typeface="Times New Roman"/>
              </a:rPr>
              <a:t>.- las rebabas de un proceso de abrasión, la salpicadura de líquidos o materiales licuados o en estado de fusión,el chorro de un fluído a presión, etc.</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Por radiación</a:t>
            </a:r>
            <a:r>
              <a:rPr b="0" lang="es-MX" sz="1800" spc="-1" strike="noStrike">
                <a:solidFill>
                  <a:srgbClr val="000000"/>
                </a:solidFill>
                <a:latin typeface="Times New Roman"/>
              </a:rPr>
              <a:t>.- rayos beta, gama, X, ultravioleta, etc.</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ngestión o inhalación</a:t>
            </a:r>
            <a:r>
              <a:rPr b="0" lang="es-MX" sz="1800" spc="-1" strike="noStrike">
                <a:solidFill>
                  <a:srgbClr val="000000"/>
                </a:solidFill>
                <a:latin typeface="Times New Roman"/>
              </a:rPr>
              <a:t>.- polvos, neblinas, humos y vapor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nvestigación de accidentes</a:t>
            </a:r>
            <a:r>
              <a:rPr b="0" lang="es-MX"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n accidente es la pérdida de control de uno de los factores que integran el riesg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investigación de accidentes es una técnica correctiva para evitar la repetición del mismo. Debe aportar lo siguiente:</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scripción general del accidente</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atos generales de identificación</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escripción del accidente</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Tipo de accidente</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ndiciones del accidente</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diciones de temporalida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aracterísticas operativas del riesgo</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aracterísticas conductuales del personal involucrado</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diciones generales del ambiente de trabajo</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Observaciones y conclusiones del supervisor</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Razones básicas del accidente (acto o condición inseguros)</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edidas propuestas para evitar su repeti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Metodología para la investigación de accidentes.</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Todo accidente debe ser investigado, sin excepción</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investigación debe iniciar en cuanto sean atendidos los lesionados o controladas las situaciones de emergencia que se hubieran presentado.</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be iniciarse con el personal responsable del área de ocurrencia. Todo personal de supervisión debe estar capacitado para ello.</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investigación debe seguir un método previamente establecido y aprobado, debe existir una forma y un instructivo respectivos y el personal debe conocerlos, saber y poder cumplirlos.</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Toda investigación debe generar un reporte emitido mancomunadamente por seguridad y el área donde se presentó. Debe incluir las acciones para evitar su repetición con nombres de responsables y fechas de cumplimiento.</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Todo accidente debe registrarse estadísticam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nálisis de operacion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 una herramienta de ingeniería industrial que nos permite conocer el tipo y la intensidad de los riesgos presentes en los procesos y operaciones normales de una empresa. Su aplicación nos proporciona:</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cripción genreal de la operación, su frecuencia y duració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aracterísticas de los materiales y energías involucrado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Herramientas y equipos utilizados y operado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osibles riesgos, fuente de los mismo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Mecanismo de desarrollo</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u aplicación requiere de personal especialmente capacitado en seguridad  y que conozca los procesos de trabajo. Es relevante la participación de los operadores delos proceso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aplicar la técnica se debe responder: ¿por qué se quiere aplicar, qué beneficios se pretende obtener?, ¿cuál es el problema a atacar, cuál es su causa?¿en dónde se va a hacer el análisis?¿en qué planta, taller, máquina y posición?¿quién va a hacer  el análisis, conoce el proceso, conoce los riesgos, conoce la metodología?¿quién va a ser el analizado?¿está dispuesto a colaborar, es un experto en la opera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l contestar las preguntas deben  surgir otras para darle respuesta:</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uándo se va a hacer el estudio? Proporcionar fecha, turno, hora.</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uándo se deben presentar los resultados, a quién, cómo?</a:t>
            </a:r>
            <a:endParaRPr b="0" lang="en-US" sz="16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l código de colores.</a:t>
            </a:r>
            <a:endParaRPr b="0" lang="en-US" sz="2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código de colores es un lenguaje que todo el mundo entiende e interpreta de la misma manera. Consta de tres niveles de información</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lor básico</a:t>
            </a:r>
            <a:r>
              <a:rPr b="0" lang="es-MX" sz="1600" spc="-1" strike="noStrike">
                <a:solidFill>
                  <a:srgbClr val="000000"/>
                </a:solidFill>
                <a:latin typeface="Times New Roman"/>
              </a:rPr>
              <a:t>.- brinda la información general de las características del contenido</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lor de seguridad</a:t>
            </a:r>
            <a:r>
              <a:rPr b="0" lang="es-MX" sz="1600" spc="-1" strike="noStrike">
                <a:solidFill>
                  <a:srgbClr val="000000"/>
                </a:solidFill>
                <a:latin typeface="Times New Roman"/>
              </a:rPr>
              <a:t>.- proporciona información general del riesgo del contenido</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Información complementaria</a:t>
            </a:r>
            <a:r>
              <a:rPr b="0" lang="es-MX" sz="1600" spc="-1" strike="noStrike">
                <a:solidFill>
                  <a:srgbClr val="000000"/>
                </a:solidFill>
                <a:latin typeface="Times New Roman"/>
              </a:rPr>
              <a:t>.- proporciona información sobre las condiciones del riesgo</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n México lo regula la NOM-026-STPS-1993</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Todas las tuberías que conduzcan fluídos deben ser identificadas con:</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lor básico: identifica tipo de fluído</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lor de seguridad: la peligrosidad o uso del fluído</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nformación complementaria: naturaleza, características y precaucuiones relativas al proces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uebas de control para el ambiente de trabajo</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Técnicas de verificación para el cuerpo humano</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Tratamientos para los casos de sobreexposició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Medios básicos de contro de ambiente contaminado.</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las empresas donde se manejen sustancias tóxicas debe integrarse un expediente por cada una de ellas y debe contener como mínim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oe su actividad, forma de actuar y potencial de riesgo clasificarlo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Sustancia peligrosa</a:t>
            </a:r>
            <a:r>
              <a:rPr b="0" lang="es-MX" sz="1800" spc="-1" strike="noStrike">
                <a:solidFill>
                  <a:srgbClr val="000000"/>
                </a:solidFill>
                <a:latin typeface="Times New Roman"/>
              </a:rPr>
              <a:t>.- aquella que representa alto riesgo para la salud, por ser corrosiva, irritante, tóxica, radioactiva, inflamable, explosiva, peróxido orgánico, gas comprimido, oxidante, pirofórica, inestable y otra que puede causar daño a la salu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Sustancia corrosiva</a:t>
            </a:r>
            <a:r>
              <a:rPr b="0" lang="es-MX" sz="1800" spc="-1" strike="noStrike">
                <a:solidFill>
                  <a:srgbClr val="000000"/>
                </a:solidFill>
                <a:latin typeface="Times New Roman"/>
              </a:rPr>
              <a:t>.- es la que causa destrucción visible o alteraciones en el tejido vivo po acción química en el sitio de contacto.</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Sustancia irritante.- </a:t>
            </a:r>
            <a:r>
              <a:rPr b="0" lang="es-MX" sz="1800" spc="-1" strike="noStrike">
                <a:solidFill>
                  <a:srgbClr val="000000"/>
                </a:solidFill>
                <a:latin typeface="Times New Roman"/>
              </a:rPr>
              <a:t>es la que no es corrosiva,pero que causa efecto inflamatorio en el tejido vivo</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Sustancia tóxica</a:t>
            </a:r>
            <a:r>
              <a:rPr b="0" lang="es-MX" sz="1800" spc="-1" strike="noStrike">
                <a:solidFill>
                  <a:srgbClr val="000000"/>
                </a:solidFill>
                <a:latin typeface="Times New Roman"/>
              </a:rPr>
              <a:t>.- puede causar transtornos estructurales o funcionales que provoquen daños o la muerte si la absorben en cantidades pequeñas los humanos, plantas o animales.</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colores básicos son:</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Verde</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1" lang="es-MX" sz="1800" spc="-1" strike="noStrike">
                <a:solidFill>
                  <a:srgbClr val="000000"/>
                </a:solidFill>
                <a:latin typeface="Times New Roman"/>
              </a:rPr>
              <a:t>agua</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Gris plateado  </a:t>
            </a:r>
            <a:r>
              <a:rPr b="1" lang="es-MX" sz="1800" spc="-1" strike="noStrike">
                <a:solidFill>
                  <a:srgbClr val="000000"/>
                </a:solidFill>
                <a:latin typeface="Times New Roman"/>
              </a:rPr>
              <a:t>vapor</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afé</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1" lang="es-MX" sz="1800" spc="-1" strike="noStrike">
                <a:solidFill>
                  <a:srgbClr val="000000"/>
                </a:solidFill>
                <a:latin typeface="Times New Roman"/>
              </a:rPr>
              <a:t>aceites minerales, vegetales y animales, combustibles</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                            </a:t>
            </a:r>
            <a:r>
              <a:rPr b="1" lang="es-MX" sz="1800" spc="-1" strike="noStrike">
                <a:solidFill>
                  <a:srgbClr val="000000"/>
                </a:solidFill>
                <a:latin typeface="Times New Roman"/>
              </a:rPr>
              <a:t>líquido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Violeta           </a:t>
            </a:r>
            <a:r>
              <a:rPr b="1" lang="es-MX" sz="1800" spc="-1" strike="noStrike">
                <a:solidFill>
                  <a:srgbClr val="000000"/>
                </a:solidFill>
                <a:latin typeface="Times New Roman"/>
              </a:rPr>
              <a:t>gases licuados o en estado gaseoso (excepto air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zul               </a:t>
            </a:r>
            <a:r>
              <a:rPr b="1" lang="es-MX" sz="1800" spc="-1" strike="noStrike">
                <a:solidFill>
                  <a:srgbClr val="000000"/>
                </a:solidFill>
                <a:latin typeface="Times New Roman"/>
              </a:rPr>
              <a:t>air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egro             </a:t>
            </a:r>
            <a:r>
              <a:rPr b="1" lang="es-MX" sz="1800" spc="-1" strike="noStrike">
                <a:solidFill>
                  <a:srgbClr val="000000"/>
                </a:solidFill>
                <a:latin typeface="Times New Roman"/>
              </a:rPr>
              <a:t>otros líquidos (excepto agua)</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uando se utilice el color negro, siempre debe emplearse la información complementaria anotando el nombre de la sustanci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colores de seguridad</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ojo                                  </a:t>
            </a:r>
            <a:r>
              <a:rPr b="1" lang="es-MX" sz="1800" spc="-1" strike="noStrike">
                <a:solidFill>
                  <a:srgbClr val="000000"/>
                </a:solidFill>
                <a:latin typeface="Times New Roman"/>
              </a:rPr>
              <a:t>para combatir incendio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marillo con franjas         </a:t>
            </a:r>
            <a:r>
              <a:rPr b="1" lang="es-MX" sz="1800" spc="-1" strike="noStrike">
                <a:solidFill>
                  <a:srgbClr val="000000"/>
                </a:solidFill>
                <a:latin typeface="Times New Roman"/>
              </a:rPr>
              <a:t>para advertir peligro</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diagonales negra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zul                                  </a:t>
            </a:r>
            <a:r>
              <a:rPr b="1" lang="es-MX" sz="1800" spc="-1" strike="noStrike">
                <a:solidFill>
                  <a:srgbClr val="000000"/>
                </a:solidFill>
                <a:latin typeface="Times New Roman"/>
              </a:rPr>
              <a:t>auxiliar para identificar agua po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aplicar el color básico hay dos opcione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intar la tubería a todo lo largo</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intar con bandas de 150 mm como mínimo, incrementar dependiendo del diámetro de la tubería para que sean claramente visible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caso de bandas, éstas deben ubicarse en ambos lados de las conexiones, bridas, unión de soldadura, válvulas, accesorios, cambios de dirección, penetración y salidas de pisos y paredes y en todo lugar donde la identificación sea necesari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ota: las válvulas pueden pintarse del color básico, con la excepsción de que al usar el color rojo de seguridad en tuberías de agua o vapor para extinción de incendio, las válvulas deben pintarse de rojo</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color de seguridad debe ser como sigu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intado en bandas de por lo menos 100 mm de longitud sobre el color básico de identificación si la tubería está toda pintada</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intado en una banda de 100 mm de longitud mínima, entre dos bandas de color básico de 150 mm de longitud mínima cada un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información complementaria debe ser de color blanco o negro (excepto los símbolos de seguridad) para contrastar claramente con el color de la tubería o con el color básico, pudiéndose emplear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ímbolos de seguridad  NOM-027-STP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ombre completo de la sustancia, Ejemplo: agua</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breviatura del nombre mediante siglas Ejemplo A agua</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ímbolo o fórmula química: H</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O</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información complementaria podrá ubicarse en una etiqueta, placa o letrero fijado a la tubería, junto a las franjas de color básico o pintada sobre el color básic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dirección del flujo debe indicarse con una flecha situada próxima a las franjas del color básico, directamente sobre la tubería en color blanco o negr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apacitació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etende que el personal conozca los riesgos y cómo prevenirlo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 necesitan tres elementos para trabajar con seguridad:</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nocer el método seguro</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Tener los elementos (herramienta, EPP y equipo) adecuados para el trabajo</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Querer (estar motivados) hacer el trabajo siguiendo el método seguro.</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Metodología de la capacitación</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esentar los riesgos y consecuencia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emostrar los métodos seguros prácticamente y la diferencia con los existente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esarrollar la capacitación en el lugar de trabajo</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quipo y normas deben ser parte de los curso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l instructor debe usar el EPP indicado y seguir el método aprobado por segurida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Un capacitando, en su práctica, debe iniciar con ponerse el EPP</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encionar la existencia de dos tipos de riesgos: los de la tarea y los ambientale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rear conciencia de comunicar toda anomalía al jefe inmediato de lo que considere pueda ser un riesgo de trabaj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gistros estadístic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on elementos de análisis que auxilian en pronosticar la posibilidad de ocurrencia de los riesgos. Los factores comúnmente empleados son:</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Temporalidad: día de la semana, hora, turno, época del año</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Tipo de actividad u operació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Tipo de equipo, herramienta o instalació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upervisió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bicación: posición, taller, planta, localida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ctores: operadores, auxiliare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legislación mexicana señala 3 tipos de índice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Índice de frecuencia.- evalúa la efectividad de las acciones de seguridad desarrolladas en una empresa. Su base es el número de incidentes registrados en elperíodo evaluado</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IF</a:t>
            </a:r>
            <a:r>
              <a:rPr b="0" lang="es-MX" sz="1600" spc="-1" strike="noStrike">
                <a:solidFill>
                  <a:srgbClr val="000000"/>
                </a:solidFill>
                <a:latin typeface="Times New Roman"/>
              </a:rPr>
              <a:t> =       n(1000/90)/N donde </a:t>
            </a:r>
            <a:r>
              <a:rPr b="1" lang="es-MX" sz="1600" spc="-1" strike="noStrike">
                <a:solidFill>
                  <a:srgbClr val="000000"/>
                </a:solidFill>
                <a:latin typeface="Times New Roman"/>
              </a:rPr>
              <a:t>n </a:t>
            </a:r>
            <a:r>
              <a:rPr b="0" lang="es-MX" sz="1600" spc="-1" strike="noStrike">
                <a:solidFill>
                  <a:srgbClr val="000000"/>
                </a:solidFill>
                <a:latin typeface="Times New Roman"/>
              </a:rPr>
              <a:t>es número de casos de incidencia y </a:t>
            </a:r>
            <a:r>
              <a:rPr b="1" lang="es-MX" sz="1600" spc="-1" strike="noStrike">
                <a:solidFill>
                  <a:srgbClr val="000000"/>
                </a:solidFill>
                <a:latin typeface="Times New Roman"/>
              </a:rPr>
              <a:t>N</a:t>
            </a:r>
            <a:r>
              <a:rPr b="0" lang="es-MX" sz="1600" spc="-1" strike="noStrike">
                <a:solidFill>
                  <a:srgbClr val="000000"/>
                </a:solidFill>
                <a:latin typeface="Times New Roman"/>
              </a:rPr>
              <a:t> es el número promedio de trabajadores de la empresa</a:t>
            </a:r>
            <a:endParaRPr b="0" lang="en-US" sz="1600" spc="-1" strike="noStrike">
              <a:solidFill>
                <a:srgbClr val="000000"/>
              </a:solidFill>
              <a:latin typeface="Times New Roman"/>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Índice de gravedad.- evalúa el nivel de peligrosidad de los riesgos de una empresa. Su base está en los días de incapacidad generado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G = [S/365 + (0.16 i ) + 16D]/N donde N: número de trabajadores promedio de la empresa; S: total de días de incapacidad; i suma de las incapacidades permanentes parciales y totales; D: número de defunciones</a:t>
            </a:r>
            <a:endParaRPr b="0" lang="en-US" sz="1600" spc="-1" strike="noStrike">
              <a:solidFill>
                <a:srgbClr val="000000"/>
              </a:solidFill>
              <a:latin typeface="Times New Roman"/>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Índice de siniestralidad.- combina los dos factores anteriore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S = [1000n/90(S/365 +0.16i + 16D)] x 10</a:t>
            </a:r>
            <a:r>
              <a:rPr b="0" lang="es-MX" sz="1600" spc="-1" strike="noStrike" baseline="30000">
                <a:solidFill>
                  <a:srgbClr val="000000"/>
                </a:solidFill>
                <a:latin typeface="Times New Roman"/>
              </a:rPr>
              <a:t>6</a:t>
            </a:r>
            <a:r>
              <a:rPr b="0" lang="es-MX" sz="1600" spc="-1" strike="noStrike">
                <a:solidFill>
                  <a:srgbClr val="000000"/>
                </a:solidFill>
                <a:latin typeface="Times New Roman"/>
              </a:rPr>
              <a:t>/N</a:t>
            </a:r>
            <a:r>
              <a:rPr b="0" lang="es-MX" sz="1600" spc="-1" strike="noStrike" baseline="30000">
                <a:solidFill>
                  <a:srgbClr val="000000"/>
                </a:solidFill>
                <a:latin typeface="Times New Roman"/>
              </a:rPr>
              <a:t>2</a:t>
            </a:r>
            <a:endParaRPr b="0" lang="en-US" sz="1600" spc="-1" strike="noStrike">
              <a:solidFill>
                <a:srgbClr val="000000"/>
              </a:solidFill>
              <a:latin typeface="Times New Roman"/>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quipo de protección personal EPP</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on dispositivos para proteger al trabajador contra condiciones de riesgos específicas y limitada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tección a ojos y cara</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Lentes, monogoggles, caretas, viseras, filtros ópticos</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tección a la cabeza y craneo</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ascos, cofias, nuqueras</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tección a manos y brazo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Guantes, mangas, dedales</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teción a pies y pierna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Zapatos, polainas, espinilleras</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tección a oídos y vías respiratoria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Orejeras, tapones, respiradores, mascarillas, filtors químicos</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quipos especial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etos, arneses, hombreras, rodilleras, traj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Guardas y protector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guardas son dispositivos diseñados apra evitar el contacto con partes en movimiento, energizadas o a temperaturas extremas. Por su tipo de instalación se clasifican en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Fija</a:t>
            </a:r>
            <a:r>
              <a:rPr b="0" lang="es-MX" sz="1800" spc="-1" strike="noStrike">
                <a:solidFill>
                  <a:srgbClr val="000000"/>
                </a:solidFill>
                <a:latin typeface="Times New Roman"/>
              </a:rPr>
              <a:t>.- permanente en la máquin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Móvil</a:t>
            </a:r>
            <a:r>
              <a:rPr b="0" lang="es-MX" sz="1800" spc="-1" strike="noStrike">
                <a:solidFill>
                  <a:srgbClr val="000000"/>
                </a:solidFill>
                <a:latin typeface="Times New Roman"/>
              </a:rPr>
              <a:t>.- está enlazada mecánicamente a la estructura con una articulación o con quías de deslizamiento</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Regulable</a:t>
            </a:r>
            <a:r>
              <a:rPr b="0" lang="es-MX" sz="1800" spc="-1" strike="noStrike">
                <a:solidFill>
                  <a:srgbClr val="000000"/>
                </a:solidFill>
                <a:latin typeface="Times New Roman"/>
              </a:rPr>
              <a:t>.- permite regular la abertura para el paso de una piez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Semiautomática</a:t>
            </a:r>
            <a:r>
              <a:rPr b="0" lang="es-MX" sz="1800" spc="-1" strike="noStrike">
                <a:solidFill>
                  <a:srgbClr val="000000"/>
                </a:solidFill>
                <a:latin typeface="Times New Roman"/>
              </a:rPr>
              <a:t>.- es accionada por el operador simultáneamente con la operación de la máquin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Automática</a:t>
            </a:r>
            <a:r>
              <a:rPr b="0" lang="es-MX" sz="1800" spc="-1" strike="noStrike">
                <a:solidFill>
                  <a:srgbClr val="000000"/>
                </a:solidFill>
                <a:latin typeface="Times New Roman"/>
              </a:rPr>
              <a:t>.- se acciona por la misma máquina</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or su forma de operar</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 </a:t>
            </a:r>
            <a:r>
              <a:rPr b="1" lang="es-MX" sz="1800" spc="-1" strike="noStrike">
                <a:solidFill>
                  <a:srgbClr val="000000"/>
                </a:solidFill>
                <a:latin typeface="Times New Roman"/>
              </a:rPr>
              <a:t>bloqueo</a:t>
            </a:r>
            <a:r>
              <a:rPr b="0" lang="es-MX" sz="1800" spc="-1" strike="noStrike">
                <a:solidFill>
                  <a:srgbClr val="000000"/>
                </a:solidFill>
                <a:latin typeface="Times New Roman"/>
              </a:rPr>
              <a:t>.- impiden la operación de la máquina si no está instalad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Mando bimanual</a:t>
            </a:r>
            <a:r>
              <a:rPr b="0" lang="es-MX" sz="1800" spc="-1" strike="noStrike">
                <a:solidFill>
                  <a:srgbClr val="000000"/>
                </a:solidFill>
                <a:latin typeface="Times New Roman"/>
              </a:rPr>
              <a:t>.- requiere que el operario emplee ambas manos para accionar la máquin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 </a:t>
            </a:r>
            <a:r>
              <a:rPr b="1" lang="es-MX" sz="1800" spc="-1" strike="noStrike">
                <a:solidFill>
                  <a:srgbClr val="000000"/>
                </a:solidFill>
                <a:latin typeface="Times New Roman"/>
              </a:rPr>
              <a:t>expulsión</a:t>
            </a:r>
            <a:r>
              <a:rPr b="0" lang="es-MX" sz="1800" spc="-1" strike="noStrike">
                <a:solidFill>
                  <a:srgbClr val="000000"/>
                </a:solidFill>
                <a:latin typeface="Times New Roman"/>
              </a:rPr>
              <a:t>.- son guardas de tipo mecánico que se proyectan para retirar a las personas o partes del cuerpo que se encuentren en la zona de peligr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El programa de higiene y seguridad</a:t>
            </a:r>
            <a:endParaRPr b="0" lang="en-US" sz="4400" spc="-1" strike="noStrike">
              <a:solidFill>
                <a:srgbClr val="000000"/>
              </a:solidFill>
              <a:latin typeface="Times New Roman"/>
            </a:endParaRPr>
          </a:p>
        </p:txBody>
      </p:sp>
      <p:pic>
        <p:nvPicPr>
          <p:cNvPr id="102" name="IN00401_" descr=""/>
          <p:cNvPicPr/>
          <p:nvPr/>
        </p:nvPicPr>
        <p:blipFill>
          <a:blip r:embed="rId1"/>
          <a:stretch/>
        </p:blipFill>
        <p:spPr>
          <a:xfrm>
            <a:off x="3941640" y="3886200"/>
            <a:ext cx="1260720" cy="1863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contenido básico de un programa de higiene y seguridad, es el siguiente:</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finición de su contenido partiendo de la visión de la empresa en materia de seguridad e higien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siderar la naturaleza y características de los riesgos de los procesos operativos y las características del personal encargado de operar dichos procesos</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programa debe incluir cada una de las siguientes áreas de acción:</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sponsable de segurida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servisio médico</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supervisió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Misión y política  de segurida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Objetivo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apacitació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ampaña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corrido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ñalizació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Investigación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 acuerdo a las dosis letales orales y dérmicas (DL50) y concentraciones letales(CL50) se clasifican e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54" name=""/>
          <p:cNvGraphicFramePr/>
          <p:nvPr/>
        </p:nvGraphicFramePr>
        <p:xfrm>
          <a:off x="304920" y="1397160"/>
          <a:ext cx="8534160" cy="4852800"/>
        </p:xfrm>
        <a:graphic>
          <a:graphicData uri="http://schemas.openxmlformats.org/drawingml/2006/table">
            <a:tbl>
              <a:tblPr/>
              <a:tblGrid>
                <a:gridCol w="1057320"/>
                <a:gridCol w="747684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iesgo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scripción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696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ever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ustancia química que tiene dosis letal media (DL50) hasta  1 mg/Kg., cuando se administra oralmente a ratas albinas con peso de 200 y 300 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856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eri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ustancia química que tiene una dosis letal media (DL50) de más de 20 mg/kg y hasta 50 mg/kg de peso corporal cuando se administra oralmente a ratas albinas con peso dde 200 y 300 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Moderado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ustancia química que tiene una dosis letal media de más de 50 mg/kg y hasta 500 mg/kg de peso corporal cuando se administra oralmente a ratas albinas con peso de 200 y 300 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1122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igero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ustancia química que tiene una dosis letal media de más de 1000 mg/kg y hasta 5000 mg/kg de peso corporal al administrarlas por contacto contínuo por 24 horas (o menos si la muerte ocurre en esas 24 horas) con la piel descubierta de conejos albinos de entre 2 y 3 K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1067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Mínim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ustancia química que tiene una conccentración letal media (CL50) en el aire de más de 200 ppm y no más de 10000 ppm por volumen de gases o vapor, entre 2 y 20 mg/l de niebla humo o polvo cuando se administra por inhalación contínua por una hora ( o menos si la muerte ocurre durante esa hora) a ratas albinas entre 200 y 300 g de pes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Organización del programa</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rograma debe satisfacer los objetivos, metas y actividades del mismo. Se recomienda la secuencia siguiente:</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efinición del campo de acció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efinición de metas y objetivo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articipante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escripción de actividade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laneación y programació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stablecimiento y ejecucuó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anual de procedimientos de seguridad</a:t>
            </a:r>
            <a:endParaRPr b="0" lang="en-US" sz="16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Inducción al personal de nuevo ingreso</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Control de equipos de emergencia</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Control de situaciones de emergencia</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Operación de la Comisión de Seguridad e Higiene</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Investigación y reporte de accidentes</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Asignación y control de EPP</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Manejo y control de sustancias y situaciones peligrosas</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rogramación y control de exámenes médicos</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Operación de procesos y operaciones de alto riesg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valuación del program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be estar regida por tres parámetros a) avance porcentual de las actividaades, b) comportamiento estadístico de los índices de seguridad y c) resultados generales del clima de segurida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la evaluación se puede recurrir a los elementos siguiente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Factores grupales: clima laboral, imagen empresarial, participació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Índices especiales: uso de EPP, orden y limpieza, condiciones de maquinaria equipo e instalaciones, participación en capacitació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portes: basados en los indicadores y referidos a las metas y a la situación de arranque y en las mismas unidades del inicio.</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sarrollo y avance: por actividad y general del programa.</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articipantes y voluntarios: es un indicador del desarrollo de la conciencia de seguridad.y de la motivació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períodos de evaluación deben ser máximo de tres meses. Se considera adecuado que en la evaluación participe la Comiíón de Seguridad e Higie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Metodología General para el desarrollo del program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el diseño del programa se recomienda la siguiente metodología:</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dentificar los riesgos</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dentificar procesos y subprocesos a controlar</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dentificar y definir las operaciones riesgosas</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efinir los riesgos</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Analizar los riesgos</a:t>
            </a:r>
            <a:r>
              <a:rPr b="0" lang="es-MX" sz="1800" spc="-1" strike="noStrike">
                <a:solidFill>
                  <a:srgbClr val="000000"/>
                </a:solidFill>
                <a:latin typeface="Times New Roman"/>
              </a:rPr>
              <a:t> para determinar:</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otencial de ocurrencia y perjuicio</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ecánica de acción: el proceso que genera el riesgo, factores catalizadores.</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Frecuencia de exposición</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sarrollar técnicas de control</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Programación</a:t>
            </a:r>
            <a:r>
              <a:rPr b="0" lang="es-MX" sz="1800" spc="-1" strike="noStrike">
                <a:solidFill>
                  <a:srgbClr val="000000"/>
                </a:solidFill>
                <a:latin typeface="Times New Roman"/>
              </a:rPr>
              <a:t>, se debe definir:</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Fechas de inicio y terminación de la actividad tratada</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Recursos para su desarrollo</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ersonal</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Áreas</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eríodos de prueba y evaluación</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Aprobación y difusión</a:t>
            </a:r>
            <a:endParaRPr b="0"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LD50  es la cantidad de un material, suministrada una sola vez, la cual causa la muerte del 50 % de un grupo de animales de prueba. Las LDC más comunmente empleadas son la dérmica y la oral; si la ruta de exposición es por inhalación, el valor es llamado LC5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or el tipo de lesión o daño que pudieran producir se clasifican en 5 grados de riesgo: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vero grado 4</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rio   grado 3</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Moderado  grado 2</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igero grado 1</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Mínimo grado 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Productos químicos</a:t>
            </a:r>
            <a:r>
              <a:rPr b="0" lang="es-MX" sz="2000" spc="-1" strike="noStrike">
                <a:solidFill>
                  <a:srgbClr val="000000"/>
                </a:solidFill>
                <a:latin typeface="Times New Roman"/>
              </a:rPr>
              <a:t> .- es la fuente más común de riesgo toxicológico, por lo genral se absorben a través de los pulmones y la piel, raras veces por la oral. Lo más común es por inhalació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laguicidas organofosforosos se acumulan en los tejodops grasos y pueden permanecer ahí durante años, después cambian por reacciones metabólica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gentes neurotóxicos</a:t>
            </a:r>
            <a:r>
              <a:rPr b="0" lang="es-MX" sz="2000" spc="-1" strike="noStrike">
                <a:solidFill>
                  <a:srgbClr val="000000"/>
                </a:solidFill>
                <a:latin typeface="Times New Roman"/>
              </a:rPr>
              <a:t>. Pueden producir efectos carcinogénicos y mutagénicos. Por lo común los efectos de conducta coinciden con los cambios en los sitemas nervioso central y periférico. Los principales son los solventes industriales, hidrocarburos aromáticos, halogenados y alifáticos y sus mezclas. También los metales pesados: plomo, mercurio y manganeso. Por sus  características de acció se clasifican:</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 toxicidad aguda</a:t>
            </a:r>
            <a:r>
              <a:rPr b="0" lang="es-MX" sz="1800" spc="-1" strike="noStrike">
                <a:solidFill>
                  <a:srgbClr val="000000"/>
                </a:solidFill>
                <a:latin typeface="Times New Roman"/>
              </a:rPr>
              <a:t>: con exposición baja produce efectos perjudiciales muy rápidamente (en segundos; en minuto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 toxicidad crónica</a:t>
            </a:r>
            <a:r>
              <a:rPr b="0" lang="es-MX" sz="1800" spc="-1" strike="noStrike">
                <a:solidFill>
                  <a:srgbClr val="000000"/>
                </a:solidFill>
                <a:latin typeface="Times New Roman"/>
              </a:rPr>
              <a:t>: con una exposición determinada requeriría de un largo tiempo para producir lesiones (días, meses).</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una sustancia no produce efectos crónicos o agudos no se considera riesg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gentes tóxicos comun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Plomo</a:t>
            </a:r>
            <a:r>
              <a:rPr b="0" lang="es-MX" sz="2000" spc="-1" strike="noStrike">
                <a:solidFill>
                  <a:srgbClr val="000000"/>
                </a:solidFill>
                <a:latin typeface="Times New Roman"/>
              </a:rPr>
              <a:t>: en la indistria minera, la metalúrgica, la producción de pilas y en la industria de la pintura. Por lo común se absorbe por inhalación, sobre todo de vapores de plomo, humos y polvo. El aparato digestivo y la piel pueden ser sitios de acceso. Síntomas: gastrointestinales, fatiga anormal, alteraciones del ánimo. Síntomas neurológicos (dolor de brazos y piernas). Tareas que requieren destreza manual reducen. El nivel de plomo en la sangre nunca debe exceder 70 mg/100 m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Monóxido de carbono</a:t>
            </a:r>
            <a:r>
              <a:rPr b="0" lang="es-MX" sz="2000" spc="-1" strike="noStrike">
                <a:solidFill>
                  <a:srgbClr val="000000"/>
                </a:solidFill>
                <a:latin typeface="Times New Roman"/>
              </a:rPr>
              <a:t>: hornos de calentamiento, unidades de calefacción central, escapes de motores, las fundiciones y el humo de cigarrillos. Penetra por inhalación. Síntomas subjetivos como el cansancio, falta de energía mental, irritabilidad, falta de concentració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olventes</a:t>
            </a:r>
            <a:r>
              <a:rPr b="0" lang="es-MX" sz="2000" spc="-1" strike="noStrike">
                <a:solidFill>
                  <a:srgbClr val="000000"/>
                </a:solidFill>
                <a:latin typeface="Times New Roman"/>
              </a:rPr>
              <a:t>: agentes químicos neurotóxicos de uso más común en el trabajo. Se absorben por inhalación y en parte a través de la piel</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Hidrocarburos aromáticos.- tolueno y xileno son los más importantes. Se ha comprobado que el benceno es leucomogénico. Casi ya no se us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Tolueno.- el tolueno se usa en pinturas, lacas, adhesivos. Adelgazadores y líquidos limpiadores. Los pintores y barnizadores están expuestos al tolueno y a sus mezclas.</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Xileno.- se usa principalmente como adelgazador de pintura y barnices y como solventes.</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Hidrocarburos halogenados</a:t>
            </a:r>
            <a:r>
              <a:rPr b="0" lang="es-MX" sz="1800" spc="-1" strike="noStrike">
                <a:solidFill>
                  <a:srgbClr val="000000"/>
                </a:solidFill>
                <a:latin typeface="Times New Roman"/>
              </a:rPr>
              <a:t>.- son tambíen neurotóxicos y pueden afectar al hígado y a los riñones. Tienen efectos depresivos, sobre todo en el sistema central:</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icloro metano.- se usa como solvente, uno de sus usos es como limpiador de pintura.</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loruro de metilo.- se usa como refrigerante, afecta al sistema nervioso central y puede producir ataxia, debilitamiento, mareo, dificultades del habla, transtornos visuales.</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Tricloroetano(metilcloroformo) se usa para desengrasar metales, causa prolongación de los tiempos de reacción, disminución de la capacidad visomotora y alteraciones en las destreza manual.</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Hidrocarburos alifáticos</a:t>
            </a:r>
            <a:r>
              <a:rPr b="0" lang="es-MX" sz="1800" spc="-1" strike="noStrike">
                <a:solidFill>
                  <a:srgbClr val="000000"/>
                </a:solidFill>
                <a:latin typeface="Times New Roman"/>
              </a:rPr>
              <a:t>: sirven como componentes de diversas mezclas de solventes, como solventes de petróleo refinado, solventes de caucho, la nafta y el barniz.</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0T20:59:33Z</dcterms:created>
  <dc:creator>Ramiro Iván Vega Espinosa</dc:creator>
  <dc:description/>
  <dc:language>en-US</dc:language>
  <cp:lastModifiedBy>Ramiro Iván Vega Espinosa</cp:lastModifiedBy>
  <dcterms:modified xsi:type="dcterms:W3CDTF">2000-08-06T04:16:39Z</dcterms:modified>
  <cp:revision>46</cp:revision>
  <dc:subject/>
  <dc:title>Capítulo IV Higiene Industrial</dc:title>
</cp:coreProperties>
</file>