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FC0-77D6-4E04-9F54-2337087B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D7A-46A6-4488-A11C-C600903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D82-1214-4879-8BE4-59272DF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ECE-AF8A-46B2-88E9-A55E7E25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E76-B6FF-4DF1-B3D3-E703C5A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D03-AA10-425A-AE3C-8CECAFE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950-DBE9-4EC7-83BB-AD53BC8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07D-1748-4FC6-AE0A-8454E6B1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28-97C1-43B4-8704-2F0FD16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B4E-0407-4542-86AB-B0C56E6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30F-0479-4069-8C4F-036D48F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598-38F4-4826-8BE0-DA1E520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F76C-3D51-41BD-9E92-2556E7A0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EGURIDAD%20E%20HIGIENE%20INDUSTRIAL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14400"/>
            <a:ext cx="1447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976320"/>
            <a:ext cx="13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atalicador de la pérdida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33440" y="923760"/>
            <a:ext cx="1184400" cy="914400"/>
            <a:chOff x="2233440" y="923760"/>
            <a:chExt cx="1184400" cy="914400"/>
          </a:xfrm>
        </p:grpSpPr>
        <p:sp>
          <p:nvSpPr>
            <p:cNvPr id="44" name=""/>
            <p:cNvSpPr/>
            <p:nvPr/>
          </p:nvSpPr>
          <p:spPr>
            <a:xfrm>
              <a:off x="2233440" y="923760"/>
              <a:ext cx="118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95360" y="100008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usas media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836880" y="914400"/>
            <a:ext cx="1290600" cy="914400"/>
            <a:chOff x="3836880" y="914400"/>
            <a:chExt cx="1290600" cy="914400"/>
          </a:xfrm>
        </p:grpSpPr>
        <p:sp>
          <p:nvSpPr>
            <p:cNvPr id="47" name=""/>
            <p:cNvSpPr/>
            <p:nvPr/>
          </p:nvSpPr>
          <p:spPr>
            <a:xfrm>
              <a:off x="3836880" y="914400"/>
              <a:ext cx="12906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36880" y="990720"/>
              <a:ext cx="121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usas inmedia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605560" y="914400"/>
            <a:ext cx="1371600" cy="914400"/>
            <a:chOff x="5605560" y="914400"/>
            <a:chExt cx="1371600" cy="914400"/>
          </a:xfrm>
        </p:grpSpPr>
        <p:sp>
          <p:nvSpPr>
            <p:cNvPr id="50" name=""/>
            <p:cNvSpPr/>
            <p:nvPr/>
          </p:nvSpPr>
          <p:spPr>
            <a:xfrm>
              <a:off x="5605560" y="914400"/>
              <a:ext cx="13716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7200" y="99072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Hecho (acciden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478640" y="923760"/>
            <a:ext cx="1247760" cy="914400"/>
            <a:chOff x="7478640" y="923760"/>
            <a:chExt cx="1247760" cy="914400"/>
          </a:xfrm>
        </p:grpSpPr>
        <p:sp>
          <p:nvSpPr>
            <p:cNvPr id="53" name=""/>
            <p:cNvSpPr/>
            <p:nvPr/>
          </p:nvSpPr>
          <p:spPr>
            <a:xfrm>
              <a:off x="7478640" y="923760"/>
              <a:ext cx="12477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43800" y="1000080"/>
              <a:ext cx="117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esión o d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752480" y="14414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7840" y="1441440"/>
            <a:ext cx="41904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27480" y="1441440"/>
            <a:ext cx="549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72480" y="14414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838160"/>
            <a:ext cx="1447560" cy="28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1844640"/>
            <a:ext cx="1459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 inadecu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ormas de trabajo inadecu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ncumplimiento de las  nor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33440" y="1828800"/>
            <a:ext cx="1184400" cy="28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5360" y="1928880"/>
            <a:ext cx="1119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tores pers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tores del trabaj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36880" y="1828800"/>
            <a:ext cx="1290600" cy="28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6880" y="1828800"/>
            <a:ext cx="12906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diciones anorma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5560" y="1828800"/>
            <a:ext cx="1371600" cy="28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05560" y="1828800"/>
            <a:ext cx="13669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tacto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terial o equipo energiz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o fuera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8640" y="1828800"/>
            <a:ext cx="124776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8640" y="1801800"/>
            <a:ext cx="1243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nstalaciones y equi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quinaria y 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0040" y="22860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CADENA DE LOS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4400" y="31910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7840" y="3191040"/>
            <a:ext cx="41904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7480" y="3191040"/>
            <a:ext cx="549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97680" y="31910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/>
          </p:cNvPr>
          <p:cNvSpPr/>
          <p:nvPr/>
        </p:nvSpPr>
        <p:spPr>
          <a:xfrm>
            <a:off x="8308800" y="6141960"/>
            <a:ext cx="412920" cy="298440"/>
          </a:xfrm>
          <a:custGeom>
            <a:avLst/>
            <a:gdLst>
              <a:gd name="textAreaLeft" fmla="*/ 19080 w 412920"/>
              <a:gd name="textAreaRight" fmla="*/ 393840 w 412920"/>
              <a:gd name="textAreaTop" fmla="*/ 19080 h 298440"/>
              <a:gd name="textAreaBottom" fmla="*/ 279360 h 298440"/>
            </a:gdLst>
            <a:ahLst/>
            <a:rect l="textAreaLeft" t="textAreaTop" r="textAreaRight" b="textAreaBottom"/>
            <a:pathLst>
              <a:path w="29876" h="21600">
                <a:moveTo>
                  <a:pt x="0" y="0"/>
                </a:moveTo>
                <a:lnTo>
                  <a:pt x="29876" y="0"/>
                </a:lnTo>
                <a:lnTo>
                  <a:pt x="29876" y="21600"/>
                </a:lnTo>
                <a:lnTo>
                  <a:pt x="0" y="21600"/>
                </a:lnTo>
                <a:close/>
              </a:path>
              <a:path fill="lightenLess" w="29876" h="21600">
                <a:moveTo>
                  <a:pt x="0" y="0"/>
                </a:moveTo>
                <a:lnTo>
                  <a:pt x="29876" y="0"/>
                </a:lnTo>
                <a:lnTo>
                  <a:pt x="28476" y="1400"/>
                </a:lnTo>
                <a:lnTo>
                  <a:pt x="1400" y="1400"/>
                </a:lnTo>
                <a:close/>
              </a:path>
              <a:path fill="darken" w="29876" h="21600">
                <a:moveTo>
                  <a:pt x="29876" y="0"/>
                </a:moveTo>
                <a:lnTo>
                  <a:pt x="29876" y="21600"/>
                </a:lnTo>
                <a:lnTo>
                  <a:pt x="28476" y="20200"/>
                </a:lnTo>
                <a:lnTo>
                  <a:pt x="28476" y="1400"/>
                </a:lnTo>
                <a:close/>
              </a:path>
              <a:path fill="darkenLess" w="29876" h="21600">
                <a:moveTo>
                  <a:pt x="29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76" y="20200"/>
                </a:lnTo>
                <a:close/>
              </a:path>
              <a:path fill="lighten" w="29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9876" h="21600">
                <a:moveTo>
                  <a:pt x="9411" y="3985"/>
                </a:moveTo>
                <a:lnTo>
                  <a:pt x="16409" y="3985"/>
                </a:lnTo>
                <a:lnTo>
                  <a:pt x="20465" y="7484"/>
                </a:lnTo>
                <a:lnTo>
                  <a:pt x="20465" y="17615"/>
                </a:lnTo>
                <a:lnTo>
                  <a:pt x="9411" y="17615"/>
                </a:lnTo>
                <a:close/>
              </a:path>
              <a:path fill="darken" w="29876" h="21600">
                <a:moveTo>
                  <a:pt x="16409" y="3985"/>
                </a:moveTo>
                <a:lnTo>
                  <a:pt x="20465" y="7484"/>
                </a:lnTo>
                <a:lnTo>
                  <a:pt x="1640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49120" y="255600"/>
            <a:ext cx="8604360" cy="6226200"/>
            <a:chOff x="249120" y="255600"/>
            <a:chExt cx="8604360" cy="6226200"/>
          </a:xfrm>
        </p:grpSpPr>
        <p:sp>
          <p:nvSpPr>
            <p:cNvPr id="76" name=""/>
            <p:cNvSpPr/>
            <p:nvPr/>
          </p:nvSpPr>
          <p:spPr>
            <a:xfrm>
              <a:off x="2984400" y="255600"/>
              <a:ext cx="31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iesgos mecán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765360"/>
              <a:ext cx="3137040" cy="143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 originan por la manifestación de energía en la operación de maquinaria, equipos y herramienta y en el manejo de materia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Actúan por contacto y alc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8600" y="1489320"/>
              <a:ext cx="151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añ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15160" y="1489320"/>
              <a:ext cx="151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esion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9120" y="2367000"/>
              <a:ext cx="2162160" cy="121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o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rac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xplo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rrum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und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64160" y="2367000"/>
              <a:ext cx="2162160" cy="121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Quem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rt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scori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ract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ntus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25680" y="2853000"/>
              <a:ext cx="24512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entes comunes 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98600" y="3751560"/>
              <a:ext cx="7834320" cy="368280"/>
              <a:chOff x="498600" y="3751560"/>
              <a:chExt cx="7834320" cy="368280"/>
            </a:xfrm>
          </p:grpSpPr>
          <p:sp>
            <p:nvSpPr>
              <p:cNvPr id="84" name=""/>
              <p:cNvSpPr/>
              <p:nvPr/>
            </p:nvSpPr>
            <p:spPr>
              <a:xfrm>
                <a:off x="498600" y="3751560"/>
                <a:ext cx="1517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Fuent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94040" y="3751560"/>
                <a:ext cx="1517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Operacion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15160" y="3751560"/>
                <a:ext cx="1517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Prevenció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49120" y="4233960"/>
              <a:ext cx="216216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máqu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Vehícu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Grúas y montaca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ransmis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emperaturas extr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re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Velo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osi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7600" y="4233960"/>
              <a:ext cx="238932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Manejo de 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sba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old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ndi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Operación de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quipos a pre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64160" y="4233960"/>
              <a:ext cx="238932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Guardas o barre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terrupt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ispositivo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ispositivos de desah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paci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ñ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000" y="167796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21440" y="167796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2920" y="2211480"/>
              <a:ext cx="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2920" y="319896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4920" y="3630600"/>
              <a:ext cx="64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4920" y="3630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69080" y="363060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69080" y="363060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6908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492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59456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49120" y="255600"/>
            <a:ext cx="8604360" cy="6217920"/>
            <a:chOff x="249120" y="255600"/>
            <a:chExt cx="8604360" cy="6217920"/>
          </a:xfrm>
        </p:grpSpPr>
        <p:sp>
          <p:nvSpPr>
            <p:cNvPr id="104" name=""/>
            <p:cNvSpPr/>
            <p:nvPr/>
          </p:nvSpPr>
          <p:spPr>
            <a:xfrm>
              <a:off x="2984400" y="255600"/>
              <a:ext cx="31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iesgos eléctr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84400" y="765000"/>
              <a:ext cx="3137040" cy="192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 originan por la presencia de la energía eléctrica en instalaciones de control, transmisión o aplicación, o por la fuga de la misma a través de elementos mal aislados o aterrizado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Actúan por contacto o por alc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00" y="1488960"/>
              <a:ext cx="151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añ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5160" y="1488960"/>
              <a:ext cx="151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esion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9120" y="2367000"/>
              <a:ext cx="2162160" cy="46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cen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xplo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4160" y="2220840"/>
              <a:ext cx="2162160" cy="96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Quem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aro cardia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aro respirato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mu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25680" y="2852640"/>
              <a:ext cx="24512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entes comunes 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120" y="4795920"/>
              <a:ext cx="2162160" cy="167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ablero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domé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indu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 operación 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alum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íneas de tier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87600" y="4795920"/>
              <a:ext cx="2389320" cy="139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ubest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íneas de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lantas de 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ransformado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21440" y="4808520"/>
              <a:ext cx="2732040" cy="155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quipos en movi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uberías y ductos con fluidos en movi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anques de almacen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fri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indu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6000" y="167796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1440" y="167796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52920" y="2700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2920" y="319896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040" y="3444840"/>
              <a:ext cx="1517760" cy="78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Bajo volt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24 a 66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94040" y="3444840"/>
              <a:ext cx="15177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lto voltaje 1000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1600" y="3444840"/>
              <a:ext cx="15177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rriente est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1360" y="3324240"/>
              <a:ext cx="625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41360" y="3324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3760" y="18651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94560" y="18651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41360" y="423396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52920" y="4095720"/>
              <a:ext cx="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94560" y="33242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4095720"/>
              <a:ext cx="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4400" y="255600"/>
            <a:ext cx="31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iesg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4400" y="765000"/>
            <a:ext cx="3137040" cy="143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e originan en la producción, aplicación y  manejo de sustancias quí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ctúan por contacto, inhalación e i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1488960"/>
            <a:ext cx="151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añ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5160" y="148896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120" y="2367000"/>
            <a:ext cx="2162160" cy="7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orro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xplo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4160" y="2098800"/>
            <a:ext cx="2162160" cy="121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uema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toxicación, asfix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nven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matitis, neuri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á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25680" y="2852640"/>
            <a:ext cx="2451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s comune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120" y="4795920"/>
            <a:ext cx="2162160" cy="12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íntesis orgá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dustria farmacéu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tro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de sustancias intermed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7720" y="4233960"/>
            <a:ext cx="2388960" cy="23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y aplicación de pint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 y  aplicación de insectic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engrasado y lavado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gro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infectación y sani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dustria alimenti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1440" y="4808520"/>
            <a:ext cx="273204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plicación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6000" y="167796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21440" y="167796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2920" y="22114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376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4560" y="1865160"/>
            <a:ext cx="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1360" y="406728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2920" y="406728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2920" y="319896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504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04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5160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e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41360" y="3570120"/>
            <a:ext cx="625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41360" y="357012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4560" y="357012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94560" y="406728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533760" y="723960"/>
            <a:ext cx="1252440" cy="1191600"/>
            <a:chOff x="3533760" y="723960"/>
            <a:chExt cx="1252440" cy="1191600"/>
          </a:xfrm>
        </p:grpSpPr>
        <p:sp>
          <p:nvSpPr>
            <p:cNvPr id="155" name=""/>
            <p:cNvSpPr/>
            <p:nvPr/>
          </p:nvSpPr>
          <p:spPr>
            <a:xfrm>
              <a:off x="3533760" y="723960"/>
              <a:ext cx="1252440" cy="1190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92160" y="816120"/>
              <a:ext cx="934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600" spc="-1" strike="noStrike">
                  <a:solidFill>
                    <a:srgbClr val="ffffff"/>
                  </a:solidFill>
                  <a:latin typeface="Albertus Medium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051600" y="2486160"/>
            <a:ext cx="1252440" cy="1213200"/>
            <a:chOff x="6051600" y="2486160"/>
            <a:chExt cx="1252440" cy="1213200"/>
          </a:xfrm>
        </p:grpSpPr>
        <p:sp>
          <p:nvSpPr>
            <p:cNvPr id="158" name=""/>
            <p:cNvSpPr/>
            <p:nvPr/>
          </p:nvSpPr>
          <p:spPr>
            <a:xfrm>
              <a:off x="6051600" y="2486160"/>
              <a:ext cx="125244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94240" y="2508120"/>
              <a:ext cx="85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200" spc="-1" strike="noStrike">
                  <a:solidFill>
                    <a:srgbClr val="ffffff"/>
                  </a:solidFill>
                  <a:latin typeface="Albertus Medium"/>
                </a:rPr>
                <a:t>B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900000" y="2486160"/>
            <a:ext cx="1519200" cy="1532880"/>
            <a:chOff x="900000" y="2486160"/>
            <a:chExt cx="1519200" cy="1532880"/>
          </a:xfrm>
        </p:grpSpPr>
        <p:sp>
          <p:nvSpPr>
            <p:cNvPr id="161" name=""/>
            <p:cNvSpPr/>
            <p:nvPr/>
          </p:nvSpPr>
          <p:spPr>
            <a:xfrm>
              <a:off x="900000" y="2486160"/>
              <a:ext cx="1519200" cy="1531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70000" y="2584440"/>
              <a:ext cx="957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800" spc="-1" strike="noStrike">
                  <a:solidFill>
                    <a:srgbClr val="ffffff"/>
                  </a:solidFill>
                  <a:latin typeface="Albertus Medium"/>
                </a:rPr>
                <a:t>C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232080" y="555480"/>
            <a:ext cx="187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12640"/>
            <a:ext cx="178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BUSTI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914480"/>
            <a:ext cx="178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U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440" y="2235240"/>
            <a:ext cx="208440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2235240"/>
            <a:ext cx="20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5440" y="4078440"/>
            <a:ext cx="20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LÉCT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4840" y="2235240"/>
            <a:ext cx="1785960" cy="18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84840" y="223524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LÍQ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4840" y="377352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BUSTI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043080" y="4017960"/>
            <a:ext cx="2251080" cy="2087640"/>
            <a:chOff x="3043080" y="4017960"/>
            <a:chExt cx="2251080" cy="2087640"/>
          </a:xfrm>
        </p:grpSpPr>
        <p:grpSp>
          <p:nvGrpSpPr>
            <p:cNvPr id="173" name=""/>
            <p:cNvGrpSpPr/>
            <p:nvPr/>
          </p:nvGrpSpPr>
          <p:grpSpPr>
            <a:xfrm>
              <a:off x="3236760" y="4322880"/>
              <a:ext cx="1828800" cy="1433520"/>
              <a:chOff x="3236760" y="4322880"/>
              <a:chExt cx="1828800" cy="1433520"/>
            </a:xfrm>
          </p:grpSpPr>
          <p:sp>
            <p:nvSpPr>
              <p:cNvPr id="174" name=""/>
              <p:cNvSpPr/>
              <p:nvPr/>
            </p:nvSpPr>
            <p:spPr>
              <a:xfrm>
                <a:off x="3236760" y="4322880"/>
                <a:ext cx="1828800" cy="143352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70360" y="4653000"/>
                <a:ext cx="6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400" spc="-1" strike="noStrike">
                    <a:solidFill>
                      <a:srgbClr val="ffffff"/>
                    </a:solidFill>
                    <a:latin typeface="Albertus Medium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043080" y="4017960"/>
              <a:ext cx="2251080" cy="20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3080" y="4017960"/>
              <a:ext cx="22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imes New Roman"/>
                </a:rPr>
                <a:t>MET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3080" y="5859360"/>
              <a:ext cx="22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imes New Roman"/>
                </a:rPr>
                <a:t>COMBUSTI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58800" y="1106640"/>
            <a:ext cx="8059680" cy="11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" y="1106640"/>
            <a:ext cx="2871720" cy="1147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46760" y="1106640"/>
            <a:ext cx="2871720" cy="1147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33524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r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08560" y="133524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r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30520" y="1335240"/>
            <a:ext cx="231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mbre del fluído sobre color de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7650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08560" y="7398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0520" y="7398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04:30:24Z</dcterms:created>
  <dc:creator>Ramiro Iván Vega Espinosa</dc:creator>
  <dc:description/>
  <dc:language>en-US</dc:language>
  <cp:lastModifiedBy>Ramiro Iván Vega Espinosa</cp:lastModifiedBy>
  <dcterms:modified xsi:type="dcterms:W3CDTF">2000-08-01T21:40:57Z</dcterms:modified>
  <cp:revision>9</cp:revision>
  <dc:subject/>
  <dc:title>Presentación de PowerPoint</dc:title>
</cp:coreProperties>
</file>